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38E-3908-4F74-9EDA-53B71747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2AD-2FFA-43BB-A11F-6FEF89E1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E163-575A-4FD5-8087-E7BE4540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68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68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6936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6936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106-3396-42FC-A552-1E954B2D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B6B5-2F55-4518-BFA1-F6DEACCF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950-8729-471A-9ACC-253D07E3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1F1-9568-4B71-9D8F-5731FD60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7EA-207B-41C6-8D73-B800FE97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652-6B9A-4396-BA7A-128B08E8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004-992B-4D01-BC32-0EB07E38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055C-1BCF-4252-A2FC-F1CC4CA7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493-86D4-4BA0-84E1-710DC733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68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B845-3548-4E52-B963-5B1915257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01000" y="152280"/>
            <a:ext cx="7621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3123720"/>
            <a:ext cx="7772400" cy="114300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Data Warehouse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zepte und Realisierung von Projek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33920" y="1143000"/>
            <a:ext cx="15969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OLAP Datenwürfel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ubes / Hyperc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ert durch die dazugehörigen Dimens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70320" y="4292640"/>
            <a:ext cx="627120" cy="6271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19680" y="4292640"/>
            <a:ext cx="625320" cy="6271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67240" y="4292640"/>
            <a:ext cx="627120" cy="6271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70320" y="3745080"/>
            <a:ext cx="627120" cy="6253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19680" y="3745080"/>
            <a:ext cx="625320" cy="6253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67240" y="3745080"/>
            <a:ext cx="627120" cy="6253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70320" y="3195720"/>
            <a:ext cx="627120" cy="6271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19680" y="3195720"/>
            <a:ext cx="625320" cy="6271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67240" y="3195720"/>
            <a:ext cx="627120" cy="6271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4475160"/>
            <a:ext cx="627120" cy="6271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5360" y="4475160"/>
            <a:ext cx="628560" cy="6271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84720" y="4475160"/>
            <a:ext cx="627120" cy="6271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87800" y="3925800"/>
            <a:ext cx="627120" cy="62856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5360" y="3925800"/>
            <a:ext cx="628560" cy="62856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4720" y="3925800"/>
            <a:ext cx="627120" cy="62856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87800" y="3378240"/>
            <a:ext cx="627120" cy="6271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5360" y="3378240"/>
            <a:ext cx="628560" cy="6271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84720" y="3378240"/>
            <a:ext cx="627120" cy="6271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05280" y="4657680"/>
            <a:ext cx="626760" cy="6271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54280" y="4657680"/>
            <a:ext cx="625680" cy="6271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02200" y="4657680"/>
            <a:ext cx="627120" cy="6271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5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05280" y="4110120"/>
            <a:ext cx="626760" cy="6253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54280" y="4110120"/>
            <a:ext cx="625680" cy="6253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02200" y="4110120"/>
            <a:ext cx="627120" cy="6253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05280" y="3560760"/>
            <a:ext cx="626760" cy="627120"/>
          </a:xfrm>
          <a:prstGeom prst="cube">
            <a:avLst>
              <a:gd name="adj" fmla="val 24995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de-DE" sz="1600" spc="-1" strike="noStrike">
                <a:solidFill>
                  <a:srgbClr val="00cc9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54280" y="3560760"/>
            <a:ext cx="625680" cy="6271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02200" y="3560760"/>
            <a:ext cx="627120" cy="62712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24360" y="3714840"/>
            <a:ext cx="2779560" cy="1440"/>
          </a:xfrm>
          <a:prstGeom prst="line">
            <a:avLst/>
          </a:prstGeom>
          <a:ln w="50760">
            <a:solidFill>
              <a:srgbClr val="2020d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024360" y="2637000"/>
            <a:ext cx="1000080" cy="1103040"/>
          </a:xfrm>
          <a:prstGeom prst="line">
            <a:avLst/>
          </a:prstGeom>
          <a:ln w="50760">
            <a:solidFill>
              <a:srgbClr val="2020d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98800" y="3740040"/>
            <a:ext cx="1440" cy="2132280"/>
          </a:xfrm>
          <a:prstGeom prst="line">
            <a:avLst/>
          </a:prstGeom>
          <a:ln w="50760">
            <a:solidFill>
              <a:srgbClr val="2020d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73080" y="2246400"/>
            <a:ext cx="1172160" cy="363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de-DE" sz="1800" spc="-1" strike="noStrike">
                <a:solidFill>
                  <a:srgbClr val="2020db"/>
                </a:solidFill>
                <a:latin typeface="Arial"/>
              </a:rPr>
              <a:t>Produ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9880" y="3200400"/>
            <a:ext cx="981720" cy="363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de-DE" sz="1800" spc="-1" strike="noStrike">
                <a:solidFill>
                  <a:srgbClr val="2020db"/>
                </a:solidFill>
                <a:latin typeface="Arial"/>
              </a:rPr>
              <a:t>Mo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90120" y="5951520"/>
            <a:ext cx="969480" cy="363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de-DE" sz="1800" spc="-1" strike="noStrike">
                <a:solidFill>
                  <a:srgbClr val="2020db"/>
                </a:solidFill>
                <a:latin typeface="Arial"/>
              </a:rPr>
              <a:t>Kon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093400" y="3749760"/>
            <a:ext cx="946440" cy="539640"/>
          </a:xfrm>
          <a:prstGeom prst="line">
            <a:avLst/>
          </a:prstGeom>
          <a:ln w="50760">
            <a:solidFill>
              <a:srgbClr val="2020d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2455560" y="2593440"/>
            <a:ext cx="584280" cy="1155960"/>
          </a:xfrm>
          <a:prstGeom prst="line">
            <a:avLst/>
          </a:prstGeom>
          <a:ln w="50760">
            <a:solidFill>
              <a:srgbClr val="2020d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3160" y="2227320"/>
            <a:ext cx="1033200" cy="363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de-DE" sz="1800" spc="-1" strike="noStrike">
                <a:solidFill>
                  <a:srgbClr val="2020db"/>
                </a:solidFill>
                <a:latin typeface="Arial"/>
              </a:rPr>
              <a:t>K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18280" y="4456080"/>
            <a:ext cx="1106640" cy="363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de-DE" sz="1800" spc="-1" strike="noStrike">
                <a:solidFill>
                  <a:srgbClr val="2020db"/>
                </a:solidFill>
                <a:latin typeface="Arial"/>
              </a:rPr>
              <a:t>Daten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OLAP Datenzugriff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frage durch Angabe der Dimensionsele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55080" y="2057400"/>
            <a:ext cx="1441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atenz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60800" y="4017960"/>
            <a:ext cx="627120" cy="627120"/>
          </a:xfrm>
          <a:prstGeom prst="cube">
            <a:avLst>
              <a:gd name="adj" fmla="val 24995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de-DE" sz="1600" spc="-1" strike="noStrike">
                <a:solidFill>
                  <a:srgbClr val="00cc9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67280" y="4164120"/>
            <a:ext cx="1193760" cy="0"/>
          </a:xfrm>
          <a:prstGeom prst="line">
            <a:avLst/>
          </a:prstGeom>
          <a:ln w="25560">
            <a:solidFill>
              <a:srgbClr val="2020d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067280" y="3618000"/>
            <a:ext cx="507960" cy="558720"/>
          </a:xfrm>
          <a:prstGeom prst="line">
            <a:avLst/>
          </a:prstGeom>
          <a:ln w="25560">
            <a:solidFill>
              <a:srgbClr val="2020d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54320" y="4176720"/>
            <a:ext cx="0" cy="888840"/>
          </a:xfrm>
          <a:prstGeom prst="line">
            <a:avLst/>
          </a:prstGeom>
          <a:ln w="25560">
            <a:solidFill>
              <a:srgbClr val="2020d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97480" y="5116680"/>
            <a:ext cx="1083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2020db"/>
              </a:buClr>
              <a:buFont typeface="Wingdings" charset="2"/>
              <a:buChar char="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ms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75040" y="3381480"/>
            <a:ext cx="125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2020db"/>
              </a:buClr>
              <a:buFont typeface="Wingdings" charset="2"/>
              <a:buChar char="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eier 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68960" y="3990960"/>
            <a:ext cx="711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2020db"/>
              </a:buClr>
              <a:buFont typeface="Wingdings" charset="2"/>
              <a:buChar char="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660480" y="3637080"/>
            <a:ext cx="406440" cy="558720"/>
          </a:xfrm>
          <a:prstGeom prst="line">
            <a:avLst/>
          </a:prstGeom>
          <a:ln w="25560">
            <a:solidFill>
              <a:srgbClr val="2020d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584160" y="4195800"/>
            <a:ext cx="482760" cy="355680"/>
          </a:xfrm>
          <a:prstGeom prst="line">
            <a:avLst/>
          </a:prstGeom>
          <a:ln w="25560">
            <a:solidFill>
              <a:srgbClr val="2020d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78960" y="3305160"/>
            <a:ext cx="1296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2020db"/>
              </a:buClr>
              <a:buFont typeface="Wingdings" charset="2"/>
              <a:buChar char="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duk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3240" y="452448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2020db"/>
              </a:buClr>
              <a:buFont typeface="Wingdings" charset="2"/>
              <a:buChar char="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OLAP Datensichten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50320" y="4727520"/>
            <a:ext cx="1399680" cy="846360"/>
            <a:chOff x="850320" y="4727520"/>
            <a:chExt cx="1399680" cy="846360"/>
          </a:xfrm>
        </p:grpSpPr>
        <p:sp>
          <p:nvSpPr>
            <p:cNvPr id="150" name=""/>
            <p:cNvSpPr/>
            <p:nvPr/>
          </p:nvSpPr>
          <p:spPr>
            <a:xfrm>
              <a:off x="1327680" y="5253120"/>
              <a:ext cx="5248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Ze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11240" y="4959360"/>
              <a:ext cx="525600" cy="2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1542960" y="4959000"/>
              <a:ext cx="525600" cy="2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1361880" y="4959000"/>
              <a:ext cx="174600" cy="2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536840" y="4959000"/>
              <a:ext cx="176040" cy="2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0320" y="4727520"/>
              <a:ext cx="13996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Jan.  Feb.  März  ..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262240" y="4027320"/>
            <a:ext cx="1738080" cy="842760"/>
            <a:chOff x="2262240" y="4027320"/>
            <a:chExt cx="1738080" cy="842760"/>
          </a:xfrm>
        </p:grpSpPr>
        <p:sp>
          <p:nvSpPr>
            <p:cNvPr id="157" name=""/>
            <p:cNvSpPr/>
            <p:nvPr/>
          </p:nvSpPr>
          <p:spPr>
            <a:xfrm>
              <a:off x="3257640" y="4376880"/>
              <a:ext cx="7426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Reg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44720" y="4027320"/>
              <a:ext cx="3038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70480" y="4202280"/>
              <a:ext cx="4046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s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22800" y="4376880"/>
              <a:ext cx="4899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Mit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62240" y="4610160"/>
              <a:ext cx="433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Sü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3230280" y="4316400"/>
              <a:ext cx="5868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3036960" y="4363920"/>
              <a:ext cx="23472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874960" y="4492800"/>
              <a:ext cx="41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2698920" y="4497480"/>
              <a:ext cx="58392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817720" y="2760840"/>
            <a:ext cx="1473480" cy="857160"/>
            <a:chOff x="2817720" y="2760840"/>
            <a:chExt cx="1473480" cy="857160"/>
          </a:xfrm>
        </p:grpSpPr>
        <p:sp>
          <p:nvSpPr>
            <p:cNvPr id="167" name=""/>
            <p:cNvSpPr/>
            <p:nvPr/>
          </p:nvSpPr>
          <p:spPr>
            <a:xfrm>
              <a:off x="3484440" y="3327480"/>
              <a:ext cx="8067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Produk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17720" y="2760840"/>
              <a:ext cx="3556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271320" y="3051000"/>
            <a:ext cx="268560" cy="828720"/>
            <a:chOff x="3271320" y="3051000"/>
            <a:chExt cx="268560" cy="828720"/>
          </a:xfrm>
        </p:grpSpPr>
        <p:sp>
          <p:nvSpPr>
            <p:cNvPr id="170" name=""/>
            <p:cNvSpPr/>
            <p:nvPr/>
          </p:nvSpPr>
          <p:spPr>
            <a:xfrm flipH="1" flipV="1">
              <a:off x="3306240" y="3051000"/>
              <a:ext cx="233640" cy="4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306240" y="3471840"/>
              <a:ext cx="23364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271320" y="3470400"/>
              <a:ext cx="257400" cy="12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3306240" y="3341160"/>
              <a:ext cx="23364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268880" y="2760840"/>
            <a:ext cx="226800" cy="2734920"/>
          </a:xfrm>
          <a:custGeom>
            <a:avLst/>
            <a:gdLst/>
            <a:ahLst/>
            <a:rect l="l" t="t" r="r" b="b"/>
            <a:pathLst>
              <a:path w="143" h="1723">
                <a:moveTo>
                  <a:pt x="0" y="0"/>
                </a:moveTo>
                <a:lnTo>
                  <a:pt x="0" y="1722"/>
                </a:lnTo>
                <a:lnTo>
                  <a:pt x="142" y="869"/>
                </a:lnTo>
                <a:lnTo>
                  <a:pt x="0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25640" y="3112920"/>
            <a:ext cx="3556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35360" y="3454560"/>
            <a:ext cx="3556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92680" y="3038400"/>
            <a:ext cx="1332000" cy="325440"/>
          </a:xfrm>
          <a:custGeom>
            <a:avLst/>
            <a:gdLst/>
            <a:ahLst/>
            <a:rect l="l" t="t" r="r" b="b"/>
            <a:pathLst>
              <a:path w="839" h="205">
                <a:moveTo>
                  <a:pt x="0" y="204"/>
                </a:moveTo>
                <a:lnTo>
                  <a:pt x="634" y="204"/>
                </a:lnTo>
                <a:lnTo>
                  <a:pt x="838" y="0"/>
                </a:lnTo>
                <a:lnTo>
                  <a:pt x="204" y="0"/>
                </a:lnTo>
                <a:lnTo>
                  <a:pt x="0" y="204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8720" y="3822840"/>
            <a:ext cx="3038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306680" y="2209680"/>
            <a:ext cx="2505960" cy="1817640"/>
            <a:chOff x="4306680" y="2209680"/>
            <a:chExt cx="2505960" cy="1817640"/>
          </a:xfrm>
        </p:grpSpPr>
        <p:grpSp>
          <p:nvGrpSpPr>
            <p:cNvPr id="180" name=""/>
            <p:cNvGrpSpPr/>
            <p:nvPr/>
          </p:nvGrpSpPr>
          <p:grpSpPr>
            <a:xfrm>
              <a:off x="4808520" y="2617920"/>
              <a:ext cx="1322280" cy="1282680"/>
              <a:chOff x="4808520" y="2617920"/>
              <a:chExt cx="1322280" cy="1282680"/>
            </a:xfrm>
          </p:grpSpPr>
          <p:sp>
            <p:nvSpPr>
              <p:cNvPr id="181" name=""/>
              <p:cNvSpPr/>
              <p:nvPr/>
            </p:nvSpPr>
            <p:spPr>
              <a:xfrm>
                <a:off x="6103800" y="3573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2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64200" y="3573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026040" y="3573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86440" y="3573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948280" y="3573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08680" y="3573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70520" y="3573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30920" y="3573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92760" y="3573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53160" y="3571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715000" y="3571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5400" y="3571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637240" y="3571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597640" y="3571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557680" y="3571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519880" y="3571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79920" y="3571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42120" y="35719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02160" y="3571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364000" y="3571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324400" y="3571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86240" y="3571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46640" y="3571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08480" y="3571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68880" y="3571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130720" y="3571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19560" y="2617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119560" y="2656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119560" y="2695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119560" y="2733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119560" y="277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119560" y="2811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119560" y="28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119560" y="2889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119560" y="292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119560" y="2967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19560" y="3006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19560" y="3044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19560" y="3084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19560" y="312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19560" y="31626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19560" y="3200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9560" y="3240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119560" y="3278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119560" y="331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119560" y="33562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119560" y="3395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19560" y="3434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19560" y="3473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19560" y="3511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19560" y="355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808520" y="3873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4" y="16"/>
                    </a:lnTo>
                    <a:lnTo>
                      <a:pt x="16" y="7"/>
                    </a:lnTo>
                    <a:lnTo>
                      <a:pt x="9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44880" y="3835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9"/>
                    </a:moveTo>
                    <a:lnTo>
                      <a:pt x="7" y="16"/>
                    </a:lnTo>
                    <a:lnTo>
                      <a:pt x="16" y="6"/>
                    </a:lnTo>
                    <a:lnTo>
                      <a:pt x="8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884840" y="3795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5" y="16"/>
                    </a:lnTo>
                    <a:lnTo>
                      <a:pt x="16" y="7"/>
                    </a:lnTo>
                    <a:lnTo>
                      <a:pt x="8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23000" y="3757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9"/>
                    </a:moveTo>
                    <a:lnTo>
                      <a:pt x="6" y="16"/>
                    </a:lnTo>
                    <a:lnTo>
                      <a:pt x="16" y="6"/>
                    </a:lnTo>
                    <a:lnTo>
                      <a:pt x="9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60800" y="3718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7" y="16"/>
                    </a:lnTo>
                    <a:lnTo>
                      <a:pt x="16" y="7"/>
                    </a:lnTo>
                    <a:lnTo>
                      <a:pt x="8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000760" y="3679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9"/>
                    </a:moveTo>
                    <a:lnTo>
                      <a:pt x="6" y="16"/>
                    </a:lnTo>
                    <a:lnTo>
                      <a:pt x="16" y="6"/>
                    </a:lnTo>
                    <a:lnTo>
                      <a:pt x="9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037120" y="3640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7" y="16"/>
                    </a:lnTo>
                    <a:lnTo>
                      <a:pt x="16" y="7"/>
                    </a:lnTo>
                    <a:lnTo>
                      <a:pt x="1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076720" y="3602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9"/>
                    </a:moveTo>
                    <a:lnTo>
                      <a:pt x="7" y="16"/>
                    </a:lnTo>
                    <a:lnTo>
                      <a:pt x="16" y="6"/>
                    </a:lnTo>
                    <a:lnTo>
                      <a:pt x="8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116680" y="356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5" y="16"/>
                    </a:lnTo>
                    <a:lnTo>
                      <a:pt x="16" y="7"/>
                    </a:lnTo>
                    <a:lnTo>
                      <a:pt x="1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4808520" y="2620800"/>
              <a:ext cx="1324080" cy="1276560"/>
            </a:xfrm>
            <a:custGeom>
              <a:avLst/>
              <a:gdLst/>
              <a:ahLst/>
              <a:rect l="l" t="t" r="r" b="b"/>
              <a:pathLst>
                <a:path w="834" h="804">
                  <a:moveTo>
                    <a:pt x="201" y="0"/>
                  </a:moveTo>
                  <a:lnTo>
                    <a:pt x="0" y="201"/>
                  </a:lnTo>
                  <a:lnTo>
                    <a:pt x="0" y="803"/>
                  </a:lnTo>
                  <a:lnTo>
                    <a:pt x="633" y="803"/>
                  </a:lnTo>
                  <a:lnTo>
                    <a:pt x="833" y="602"/>
                  </a:lnTo>
                  <a:lnTo>
                    <a:pt x="833" y="0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812840" y="2936880"/>
              <a:ext cx="10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815080" y="2622240"/>
              <a:ext cx="31428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15080" y="2936880"/>
              <a:ext cx="0" cy="9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61360" y="2209680"/>
              <a:ext cx="1869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Produktmanagement</a:t>
              </a: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2000" y="2357280"/>
              <a:ext cx="5875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Sich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08520" y="3905280"/>
              <a:ext cx="134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19640" y="3859200"/>
              <a:ext cx="149400" cy="93600"/>
            </a:xfrm>
            <a:custGeom>
              <a:avLst/>
              <a:gdLst/>
              <a:ahLst/>
              <a:rect l="l" t="t" r="r" b="b"/>
              <a:pathLst>
                <a:path w="94" h="59">
                  <a:moveTo>
                    <a:pt x="0" y="58"/>
                  </a:moveTo>
                  <a:lnTo>
                    <a:pt x="11" y="29"/>
                  </a:lnTo>
                  <a:lnTo>
                    <a:pt x="0" y="0"/>
                  </a:lnTo>
                  <a:lnTo>
                    <a:pt x="93" y="29"/>
                  </a:lnTo>
                  <a:lnTo>
                    <a:pt x="0" y="5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4808520" y="2630520"/>
              <a:ext cx="0" cy="12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61000" y="2522520"/>
              <a:ext cx="95040" cy="149400"/>
            </a:xfrm>
            <a:custGeom>
              <a:avLst/>
              <a:gdLst/>
              <a:ahLst/>
              <a:rect l="l" t="t" r="r" b="b"/>
              <a:pathLst>
                <a:path w="60" h="94">
                  <a:moveTo>
                    <a:pt x="59" y="93"/>
                  </a:moveTo>
                  <a:lnTo>
                    <a:pt x="30" y="82"/>
                  </a:lnTo>
                  <a:lnTo>
                    <a:pt x="0" y="93"/>
                  </a:lnTo>
                  <a:lnTo>
                    <a:pt x="30" y="0"/>
                  </a:lnTo>
                  <a:lnTo>
                    <a:pt x="59" y="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5818320" y="3394080"/>
              <a:ext cx="50472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64360" y="3316320"/>
              <a:ext cx="139680" cy="138240"/>
            </a:xfrm>
            <a:custGeom>
              <a:avLst/>
              <a:gdLst/>
              <a:ahLst/>
              <a:rect l="l" t="t" r="r" b="b"/>
              <a:pathLst>
                <a:path w="88" h="87">
                  <a:moveTo>
                    <a:pt x="41" y="86"/>
                  </a:moveTo>
                  <a:lnTo>
                    <a:pt x="28" y="58"/>
                  </a:lnTo>
                  <a:lnTo>
                    <a:pt x="0" y="45"/>
                  </a:lnTo>
                  <a:lnTo>
                    <a:pt x="87" y="0"/>
                  </a:lnTo>
                  <a:lnTo>
                    <a:pt x="41" y="8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99920" y="3813120"/>
              <a:ext cx="355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Ze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06120" y="3311640"/>
              <a:ext cx="506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06680" y="2460600"/>
              <a:ext cx="537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Produk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731840" y="3895560"/>
            <a:ext cx="1942200" cy="1630440"/>
            <a:chOff x="4731840" y="3895560"/>
            <a:chExt cx="1942200" cy="1630440"/>
          </a:xfrm>
        </p:grpSpPr>
        <p:grpSp>
          <p:nvGrpSpPr>
            <p:cNvPr id="257" name=""/>
            <p:cNvGrpSpPr/>
            <p:nvPr/>
          </p:nvGrpSpPr>
          <p:grpSpPr>
            <a:xfrm>
              <a:off x="4797360" y="4240080"/>
              <a:ext cx="1336680" cy="1285920"/>
              <a:chOff x="4797360" y="4240080"/>
              <a:chExt cx="1336680" cy="128592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4799160" y="4240080"/>
                <a:ext cx="1334880" cy="1285920"/>
                <a:chOff x="4799160" y="4240080"/>
                <a:chExt cx="1334880" cy="12859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107040" y="51973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2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068880" y="51973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029280" y="51973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991120" y="51973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951520" y="51973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913360" y="51973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873760" y="51973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834160" y="51973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796000" y="51973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756400" y="5195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718240" y="5195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678640" y="5195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640480" y="5195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600880" y="5195880"/>
                  <a:ext cx="2664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562720" y="5195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522760" y="5195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484960" y="5195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445000" y="51944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2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407200" y="5194440"/>
                  <a:ext cx="2664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367240" y="51944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329080" y="51944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289480" y="51944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251320" y="51944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211720" y="51944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173560" y="51944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133960" y="51944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113440" y="42400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113440" y="42800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113440" y="43178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13440" y="43578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113440" y="4395960"/>
                  <a:ext cx="2700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113440" y="44355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113440" y="44737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113440" y="45133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113440" y="45514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113440" y="45910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113440" y="46292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13440" y="46688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113440" y="47070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113440" y="4746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13440" y="47847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113440" y="48243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113440" y="48625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113440" y="4902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113440" y="49402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113440" y="4979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113440" y="50180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113440" y="5057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113440" y="50958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113440" y="51354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113440" y="51735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799160" y="54990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9"/>
                      </a:moveTo>
                      <a:lnTo>
                        <a:pt x="6" y="16"/>
                      </a:lnTo>
                      <a:lnTo>
                        <a:pt x="16" y="6"/>
                      </a:lnTo>
                      <a:lnTo>
                        <a:pt x="9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838760" y="54594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8"/>
                      </a:moveTo>
                      <a:lnTo>
                        <a:pt x="6" y="16"/>
                      </a:lnTo>
                      <a:lnTo>
                        <a:pt x="16" y="7"/>
                      </a:lnTo>
                      <a:lnTo>
                        <a:pt x="9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876920" y="54212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9"/>
                      </a:moveTo>
                      <a:lnTo>
                        <a:pt x="6" y="16"/>
                      </a:lnTo>
                      <a:lnTo>
                        <a:pt x="16" y="6"/>
                      </a:lnTo>
                      <a:lnTo>
                        <a:pt x="9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915080" y="5381640"/>
                  <a:ext cx="2664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8"/>
                      </a:moveTo>
                      <a:lnTo>
                        <a:pt x="7" y="16"/>
                      </a:lnTo>
                      <a:lnTo>
                        <a:pt x="16" y="7"/>
                      </a:lnTo>
                      <a:lnTo>
                        <a:pt x="8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954680" y="53434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9"/>
                      </a:moveTo>
                      <a:lnTo>
                        <a:pt x="6" y="16"/>
                      </a:lnTo>
                      <a:lnTo>
                        <a:pt x="16" y="6"/>
                      </a:lnTo>
                      <a:lnTo>
                        <a:pt x="9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992840" y="5303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8"/>
                      </a:moveTo>
                      <a:lnTo>
                        <a:pt x="7" y="16"/>
                      </a:lnTo>
                      <a:lnTo>
                        <a:pt x="16" y="7"/>
                      </a:lnTo>
                      <a:lnTo>
                        <a:pt x="8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032440" y="52657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9"/>
                      </a:moveTo>
                      <a:lnTo>
                        <a:pt x="6" y="16"/>
                      </a:lnTo>
                      <a:lnTo>
                        <a:pt x="16" y="6"/>
                      </a:lnTo>
                      <a:lnTo>
                        <a:pt x="9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070600" y="5226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8"/>
                      </a:moveTo>
                      <a:lnTo>
                        <a:pt x="6" y="16"/>
                      </a:lnTo>
                      <a:lnTo>
                        <a:pt x="16" y="7"/>
                      </a:lnTo>
                      <a:lnTo>
                        <a:pt x="9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110200" y="5187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9"/>
                      </a:moveTo>
                      <a:lnTo>
                        <a:pt x="6" y="16"/>
                      </a:lnTo>
                      <a:lnTo>
                        <a:pt x="16" y="6"/>
                      </a:lnTo>
                      <a:lnTo>
                        <a:pt x="9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4978440" y="4410000"/>
                <a:ext cx="1015920" cy="9208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97360" y="4248000"/>
                <a:ext cx="1335240" cy="1276560"/>
              </a:xfrm>
              <a:custGeom>
                <a:avLst/>
                <a:gdLst/>
                <a:ahLst/>
                <a:rect l="l" t="t" r="r" b="b"/>
                <a:pathLst>
                  <a:path w="841" h="804">
                    <a:moveTo>
                      <a:pt x="201" y="0"/>
                    </a:moveTo>
                    <a:lnTo>
                      <a:pt x="0" y="200"/>
                    </a:lnTo>
                    <a:lnTo>
                      <a:pt x="0" y="803"/>
                    </a:lnTo>
                    <a:lnTo>
                      <a:pt x="640" y="803"/>
                    </a:lnTo>
                    <a:lnTo>
                      <a:pt x="840" y="602"/>
                    </a:lnTo>
                    <a:lnTo>
                      <a:pt x="840" y="0"/>
                    </a:lnTo>
                    <a:lnTo>
                      <a:pt x="20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4802040" y="4564080"/>
                <a:ext cx="101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5815080" y="4249440"/>
                <a:ext cx="31428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815080" y="4564080"/>
                <a:ext cx="0" cy="9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4731840" y="3895560"/>
              <a:ext cx="19422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Regionalmanagement</a:t>
              </a: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92000" y="4041720"/>
              <a:ext cx="5875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Sich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899400" y="2203560"/>
            <a:ext cx="1509120" cy="1692000"/>
            <a:chOff x="6899400" y="2203560"/>
            <a:chExt cx="1509120" cy="1692000"/>
          </a:xfrm>
        </p:grpSpPr>
        <p:grpSp>
          <p:nvGrpSpPr>
            <p:cNvPr id="327" name=""/>
            <p:cNvGrpSpPr/>
            <p:nvPr/>
          </p:nvGrpSpPr>
          <p:grpSpPr>
            <a:xfrm>
              <a:off x="6899400" y="2610000"/>
              <a:ext cx="1341360" cy="1285560"/>
              <a:chOff x="6899400" y="2610000"/>
              <a:chExt cx="1341360" cy="1285560"/>
            </a:xfrm>
          </p:grpSpPr>
          <p:sp>
            <p:nvSpPr>
              <p:cNvPr id="328" name=""/>
              <p:cNvSpPr/>
              <p:nvPr/>
            </p:nvSpPr>
            <p:spPr>
              <a:xfrm>
                <a:off x="7361280" y="2610000"/>
                <a:ext cx="328680" cy="1284120"/>
              </a:xfrm>
              <a:custGeom>
                <a:avLst/>
                <a:gdLst/>
                <a:ahLst/>
                <a:rect l="l" t="t" r="r" b="b"/>
                <a:pathLst>
                  <a:path w="207" h="809">
                    <a:moveTo>
                      <a:pt x="0" y="204"/>
                    </a:moveTo>
                    <a:lnTo>
                      <a:pt x="206" y="0"/>
                    </a:lnTo>
                    <a:lnTo>
                      <a:pt x="206" y="605"/>
                    </a:lnTo>
                    <a:lnTo>
                      <a:pt x="0" y="80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899400" y="2612880"/>
                <a:ext cx="1341360" cy="1282680"/>
                <a:chOff x="6899400" y="2612880"/>
                <a:chExt cx="1341360" cy="1282680"/>
              </a:xfrm>
            </p:grpSpPr>
            <p:grpSp>
              <p:nvGrpSpPr>
                <p:cNvPr id="330" name=""/>
                <p:cNvGrpSpPr/>
                <p:nvPr/>
              </p:nvGrpSpPr>
              <p:grpSpPr>
                <a:xfrm>
                  <a:off x="6902280" y="2612880"/>
                  <a:ext cx="1338480" cy="1282680"/>
                  <a:chOff x="6902280" y="2612880"/>
                  <a:chExt cx="1338480" cy="128268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8213760" y="35686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2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8174160" y="35686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8136000" y="35686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8096400" y="35686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8058240" y="35686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8018640" y="3568680"/>
                    <a:ext cx="26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980480" y="35686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940520" y="35686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902720" y="35686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862760" y="35672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824960" y="3567240"/>
                    <a:ext cx="26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785000" y="35672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746840" y="35672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707240" y="35672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669080" y="35672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7629480" y="35672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7589880" y="35672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551720" y="35654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2"/>
                        </a:lnTo>
                        <a:lnTo>
                          <a:pt x="0" y="0"/>
                        </a:lnTo>
                        <a:lnTo>
                          <a:pt x="0" y="13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512120" y="35654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7473960" y="35654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7434360" y="35654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7396200" y="35654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7356600" y="35654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7318440" y="35654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7278840" y="35654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7240680" y="35654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7219800" y="26128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7219800" y="26528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7219800" y="26906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7219800" y="27306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7219800" y="27687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7219800" y="28083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7219800" y="284652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7219800" y="288612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7219800" y="29242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7219800" y="29638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7219800" y="30020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7219800" y="30416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7219800" y="30798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7219800" y="3119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7219800" y="31575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7219800" y="31971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7219800" y="323532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7219800" y="327492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7219800" y="33130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7219800" y="33526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219800" y="33908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7219800" y="34304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219800" y="34686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7219800" y="35082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7219800" y="35463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6902280" y="38685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9"/>
                        </a:moveTo>
                        <a:lnTo>
                          <a:pt x="7" y="16"/>
                        </a:lnTo>
                        <a:lnTo>
                          <a:pt x="16" y="6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6942240" y="38289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1"/>
                        </a:moveTo>
                        <a:lnTo>
                          <a:pt x="7" y="16"/>
                        </a:lnTo>
                        <a:lnTo>
                          <a:pt x="16" y="6"/>
                        </a:lnTo>
                        <a:lnTo>
                          <a:pt x="8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6980400" y="37908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9"/>
                        </a:moveTo>
                        <a:lnTo>
                          <a:pt x="7" y="16"/>
                        </a:lnTo>
                        <a:lnTo>
                          <a:pt x="16" y="6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020000" y="37512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1"/>
                        </a:moveTo>
                        <a:lnTo>
                          <a:pt x="7" y="16"/>
                        </a:lnTo>
                        <a:lnTo>
                          <a:pt x="16" y="6"/>
                        </a:lnTo>
                        <a:lnTo>
                          <a:pt x="8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059600" y="37130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9"/>
                        </a:moveTo>
                        <a:lnTo>
                          <a:pt x="6" y="16"/>
                        </a:lnTo>
                        <a:lnTo>
                          <a:pt x="16" y="6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097760" y="3675240"/>
                    <a:ext cx="270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0"/>
                        </a:moveTo>
                        <a:lnTo>
                          <a:pt x="7" y="16"/>
                        </a:lnTo>
                        <a:lnTo>
                          <a:pt x="16" y="5"/>
                        </a:lnTo>
                        <a:lnTo>
                          <a:pt x="8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7137360" y="36352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9"/>
                        </a:moveTo>
                        <a:lnTo>
                          <a:pt x="6" y="16"/>
                        </a:lnTo>
                        <a:lnTo>
                          <a:pt x="16" y="6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7175520" y="359712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0"/>
                        </a:moveTo>
                        <a:lnTo>
                          <a:pt x="7" y="16"/>
                        </a:lnTo>
                        <a:lnTo>
                          <a:pt x="16" y="5"/>
                        </a:lnTo>
                        <a:lnTo>
                          <a:pt x="8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7215120" y="355752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9"/>
                        </a:moveTo>
                        <a:lnTo>
                          <a:pt x="6" y="16"/>
                        </a:lnTo>
                        <a:lnTo>
                          <a:pt x="16" y="6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1" name=""/>
                <p:cNvSpPr/>
                <p:nvPr/>
              </p:nvSpPr>
              <p:spPr>
                <a:xfrm>
                  <a:off x="6899400" y="2614680"/>
                  <a:ext cx="1336680" cy="1272960"/>
                </a:xfrm>
                <a:custGeom>
                  <a:avLst/>
                  <a:gdLst/>
                  <a:ahLst/>
                  <a:rect l="l" t="t" r="r" b="b"/>
                  <a:pathLst>
                    <a:path w="842" h="802">
                      <a:moveTo>
                        <a:pt x="200" y="0"/>
                      </a:moveTo>
                      <a:lnTo>
                        <a:pt x="0" y="200"/>
                      </a:lnTo>
                      <a:lnTo>
                        <a:pt x="0" y="801"/>
                      </a:lnTo>
                      <a:lnTo>
                        <a:pt x="641" y="801"/>
                      </a:lnTo>
                      <a:lnTo>
                        <a:pt x="841" y="601"/>
                      </a:lnTo>
                      <a:lnTo>
                        <a:pt x="841" y="0"/>
                      </a:lnTo>
                      <a:lnTo>
                        <a:pt x="20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>
                  <a:off x="6904080" y="2928960"/>
                  <a:ext cx="1014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7918560" y="2615760"/>
                  <a:ext cx="312480" cy="312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918560" y="2928960"/>
                  <a:ext cx="0" cy="95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5" name=""/>
            <p:cNvSpPr/>
            <p:nvPr/>
          </p:nvSpPr>
          <p:spPr>
            <a:xfrm>
              <a:off x="7177680" y="2203560"/>
              <a:ext cx="1109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Controlling</a:t>
              </a: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94400" y="2351160"/>
              <a:ext cx="1014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Sicht</a:t>
              </a: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Zeit</a:t>
              </a: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897600" y="3895560"/>
            <a:ext cx="1354320" cy="1630440"/>
            <a:chOff x="6897600" y="3895560"/>
            <a:chExt cx="1354320" cy="1630440"/>
          </a:xfrm>
        </p:grpSpPr>
        <p:grpSp>
          <p:nvGrpSpPr>
            <p:cNvPr id="398" name=""/>
            <p:cNvGrpSpPr/>
            <p:nvPr/>
          </p:nvGrpSpPr>
          <p:grpSpPr>
            <a:xfrm>
              <a:off x="6897600" y="4240080"/>
              <a:ext cx="1354320" cy="1285920"/>
              <a:chOff x="6897600" y="4240080"/>
              <a:chExt cx="1354320" cy="128592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6897600" y="4240080"/>
                <a:ext cx="1354320" cy="1285920"/>
                <a:chOff x="6897600" y="4240080"/>
                <a:chExt cx="1354320" cy="12859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8224920" y="5199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8185320" y="5199120"/>
                  <a:ext cx="2664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147160" y="5199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8107200" y="5199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8069400" y="5199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029440" y="5199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991640" y="5199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951680" y="5199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913520" y="5199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873920" y="51973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835760" y="51973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796160" y="51973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756560" y="51973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718400" y="51973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678800" y="51973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640640" y="51973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601040" y="51973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562880" y="51973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523280" y="5195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485120" y="5195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445520" y="5195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407360" y="5195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367760" y="5195880"/>
                  <a:ext cx="2664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329600" y="5195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289640" y="5195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251840" y="5195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216920" y="5195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218360" y="42400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218360" y="42800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218360" y="43178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218360" y="43578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218360" y="4395960"/>
                  <a:ext cx="2700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218360" y="44355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218360" y="44737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218360" y="45133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218360" y="45514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218360" y="45910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218360" y="46292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218360" y="46688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218360" y="47070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218360" y="4746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218360" y="47847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218360" y="48243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218360" y="48625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218360" y="4902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218360" y="49402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218360" y="4979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218360" y="50180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218360" y="5057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218360" y="50958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218360" y="51354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218360" y="51735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897600" y="54990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1"/>
                      </a:moveTo>
                      <a:lnTo>
                        <a:pt x="6" y="16"/>
                      </a:lnTo>
                      <a:lnTo>
                        <a:pt x="16" y="6"/>
                      </a:lnTo>
                      <a:lnTo>
                        <a:pt x="9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935760" y="54608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8"/>
                      </a:moveTo>
                      <a:lnTo>
                        <a:pt x="7" y="16"/>
                      </a:lnTo>
                      <a:lnTo>
                        <a:pt x="16" y="5"/>
                      </a:lnTo>
                      <a:lnTo>
                        <a:pt x="8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975360" y="54212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0"/>
                      </a:moveTo>
                      <a:lnTo>
                        <a:pt x="6" y="16"/>
                      </a:lnTo>
                      <a:lnTo>
                        <a:pt x="16" y="7"/>
                      </a:lnTo>
                      <a:lnTo>
                        <a:pt x="9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013520" y="53830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8"/>
                      </a:moveTo>
                      <a:lnTo>
                        <a:pt x="7" y="16"/>
                      </a:lnTo>
                      <a:lnTo>
                        <a:pt x="16" y="5"/>
                      </a:lnTo>
                      <a:lnTo>
                        <a:pt x="8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053120" y="53452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9"/>
                      </a:moveTo>
                      <a:lnTo>
                        <a:pt x="6" y="16"/>
                      </a:lnTo>
                      <a:lnTo>
                        <a:pt x="16" y="6"/>
                      </a:lnTo>
                      <a:lnTo>
                        <a:pt x="9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091280" y="5307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9"/>
                      </a:moveTo>
                      <a:lnTo>
                        <a:pt x="7" y="16"/>
                      </a:lnTo>
                      <a:lnTo>
                        <a:pt x="16" y="6"/>
                      </a:lnTo>
                      <a:lnTo>
                        <a:pt x="8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130880" y="52671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8"/>
                      </a:moveTo>
                      <a:lnTo>
                        <a:pt x="6" y="16"/>
                      </a:lnTo>
                      <a:lnTo>
                        <a:pt x="16" y="7"/>
                      </a:lnTo>
                      <a:lnTo>
                        <a:pt x="9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169040" y="52293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9"/>
                      </a:moveTo>
                      <a:lnTo>
                        <a:pt x="7" y="16"/>
                      </a:lnTo>
                      <a:lnTo>
                        <a:pt x="16" y="6"/>
                      </a:lnTo>
                      <a:lnTo>
                        <a:pt x="8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209000" y="51912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9"/>
                      </a:moveTo>
                      <a:lnTo>
                        <a:pt x="5" y="16"/>
                      </a:lnTo>
                      <a:lnTo>
                        <a:pt x="16" y="6"/>
                      </a:lnTo>
                      <a:lnTo>
                        <a:pt x="8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>
                <a:off x="7091280" y="4389480"/>
                <a:ext cx="571680" cy="527040"/>
              </a:xfrm>
              <a:custGeom>
                <a:avLst/>
                <a:gdLst/>
                <a:ahLst/>
                <a:rect l="l" t="t" r="r" b="b"/>
                <a:pathLst>
                  <a:path w="360" h="332">
                    <a:moveTo>
                      <a:pt x="83" y="0"/>
                    </a:moveTo>
                    <a:lnTo>
                      <a:pt x="0" y="82"/>
                    </a:lnTo>
                    <a:lnTo>
                      <a:pt x="0" y="331"/>
                    </a:lnTo>
                    <a:lnTo>
                      <a:pt x="276" y="331"/>
                    </a:lnTo>
                    <a:lnTo>
                      <a:pt x="359" y="248"/>
                    </a:lnTo>
                    <a:lnTo>
                      <a:pt x="359" y="0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7095600" y="4518000"/>
                <a:ext cx="43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7532640" y="4390560"/>
                <a:ext cx="1256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532640" y="4518000"/>
                <a:ext cx="0" cy="39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899400" y="4248000"/>
                <a:ext cx="1336680" cy="1276560"/>
              </a:xfrm>
              <a:custGeom>
                <a:avLst/>
                <a:gdLst/>
                <a:ahLst/>
                <a:rect l="l" t="t" r="r" b="b"/>
                <a:pathLst>
                  <a:path w="842" h="804">
                    <a:moveTo>
                      <a:pt x="201" y="0"/>
                    </a:moveTo>
                    <a:lnTo>
                      <a:pt x="0" y="200"/>
                    </a:lnTo>
                    <a:lnTo>
                      <a:pt x="0" y="803"/>
                    </a:lnTo>
                    <a:lnTo>
                      <a:pt x="640" y="803"/>
                    </a:lnTo>
                    <a:lnTo>
                      <a:pt x="841" y="602"/>
                    </a:lnTo>
                    <a:lnTo>
                      <a:pt x="841" y="0"/>
                    </a:lnTo>
                    <a:lnTo>
                      <a:pt x="20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6904080" y="4564080"/>
                <a:ext cx="10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7918560" y="4249440"/>
                <a:ext cx="31248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918560" y="4564080"/>
                <a:ext cx="0" cy="9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7304400" y="3895560"/>
              <a:ext cx="7916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Ad</a:t>
              </a: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hoc</a:t>
              </a: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395120" y="4041720"/>
              <a:ext cx="5875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Sich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838080" y="3857760"/>
            <a:ext cx="1919520" cy="866160"/>
            <a:chOff x="838080" y="3857760"/>
            <a:chExt cx="1919520" cy="866160"/>
          </a:xfrm>
        </p:grpSpPr>
        <p:sp>
          <p:nvSpPr>
            <p:cNvPr id="472" name=""/>
            <p:cNvSpPr/>
            <p:nvPr/>
          </p:nvSpPr>
          <p:spPr>
            <a:xfrm>
              <a:off x="1363680" y="3857760"/>
              <a:ext cx="34272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1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1368360" y="39402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1622520" y="3859200"/>
              <a:ext cx="8100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22520" y="3940200"/>
              <a:ext cx="0" cy="2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14320" y="3857760"/>
              <a:ext cx="34308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1" y="215"/>
                  </a:lnTo>
                  <a:lnTo>
                    <a:pt x="215" y="161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1719000" y="39402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973160" y="3859200"/>
              <a:ext cx="7956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73160" y="3940200"/>
              <a:ext cx="0" cy="2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063880" y="3857760"/>
              <a:ext cx="344520" cy="34272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1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068560" y="39402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2324160" y="3859200"/>
              <a:ext cx="7920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24160" y="3940200"/>
              <a:ext cx="0" cy="2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414520" y="3857760"/>
              <a:ext cx="34308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4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1"/>
                  </a:lnTo>
                  <a:lnTo>
                    <a:pt x="215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2419200" y="39402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2673360" y="3859200"/>
              <a:ext cx="8100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73360" y="3940200"/>
              <a:ext cx="0" cy="2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87280" y="4032000"/>
              <a:ext cx="344520" cy="34272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1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1193760" y="4114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1447920" y="4033800"/>
              <a:ext cx="7920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47920" y="4114800"/>
              <a:ext cx="0" cy="2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38280" y="4032000"/>
              <a:ext cx="344520" cy="34272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1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1542960" y="4114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1797120" y="4033800"/>
              <a:ext cx="8100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797120" y="4114800"/>
              <a:ext cx="0" cy="2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89280" y="4032000"/>
              <a:ext cx="34272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4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1"/>
                  </a:lnTo>
                  <a:lnTo>
                    <a:pt x="215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1893600" y="41148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2147760" y="4033800"/>
              <a:ext cx="8100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147760" y="4114800"/>
              <a:ext cx="0" cy="2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39920" y="4032000"/>
              <a:ext cx="34308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1" y="215"/>
                  </a:lnTo>
                  <a:lnTo>
                    <a:pt x="215" y="161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2244600" y="4114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2498760" y="4033800"/>
              <a:ext cx="8100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98760" y="4114800"/>
              <a:ext cx="0" cy="2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12680" y="4206600"/>
              <a:ext cx="34308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4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2"/>
                  </a:lnTo>
                  <a:lnTo>
                    <a:pt x="215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1017360" y="42894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271520" y="420984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71520" y="4289400"/>
              <a:ext cx="0" cy="2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63680" y="4206600"/>
              <a:ext cx="34272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2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1368360" y="42894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1622520" y="420984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22520" y="4289400"/>
              <a:ext cx="0" cy="2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14320" y="4206600"/>
              <a:ext cx="34308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1" y="215"/>
                  </a:lnTo>
                  <a:lnTo>
                    <a:pt x="215" y="162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1719000" y="42894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1973160" y="4209840"/>
              <a:ext cx="7956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73160" y="4289400"/>
              <a:ext cx="0" cy="2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63880" y="4206600"/>
              <a:ext cx="344520" cy="34272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2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2068560" y="42894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2324160" y="4209840"/>
              <a:ext cx="792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24160" y="4289400"/>
              <a:ext cx="0" cy="2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381200"/>
              <a:ext cx="34308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1" y="215"/>
                  </a:lnTo>
                  <a:lnTo>
                    <a:pt x="215" y="162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842760" y="44640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1096920" y="438444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96920" y="4464000"/>
              <a:ext cx="0" cy="2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87280" y="4381200"/>
              <a:ext cx="344520" cy="34272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2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1193760" y="44640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1447920" y="4384440"/>
              <a:ext cx="792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7920" y="4464000"/>
              <a:ext cx="0" cy="2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38280" y="4381200"/>
              <a:ext cx="344520" cy="34272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2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1542960" y="44640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1797120" y="438444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97120" y="4464000"/>
              <a:ext cx="0" cy="2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89280" y="4381200"/>
              <a:ext cx="34272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4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2"/>
                  </a:lnTo>
                  <a:lnTo>
                    <a:pt x="215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1893600" y="44640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2147760" y="438444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147760" y="4464000"/>
              <a:ext cx="0" cy="2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838080" y="3506760"/>
            <a:ext cx="1919520" cy="868320"/>
            <a:chOff x="838080" y="3506760"/>
            <a:chExt cx="1919520" cy="868320"/>
          </a:xfrm>
        </p:grpSpPr>
        <p:sp>
          <p:nvSpPr>
            <p:cNvPr id="537" name=""/>
            <p:cNvSpPr/>
            <p:nvPr/>
          </p:nvSpPr>
          <p:spPr>
            <a:xfrm>
              <a:off x="1363680" y="3506760"/>
              <a:ext cx="34272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2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1368360" y="35892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1622520" y="350928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22520" y="35892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14320" y="3506760"/>
              <a:ext cx="34308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1" y="215"/>
                  </a:lnTo>
                  <a:lnTo>
                    <a:pt x="215" y="162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1719000" y="35892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973160" y="35092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73160" y="35892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63880" y="3506760"/>
              <a:ext cx="344520" cy="34272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2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2068560" y="35892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2324160" y="3509280"/>
              <a:ext cx="792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324160" y="35892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14520" y="3506760"/>
              <a:ext cx="34308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4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2"/>
                  </a:lnTo>
                  <a:lnTo>
                    <a:pt x="215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2419200" y="35892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2673360" y="350928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673360" y="35892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87280" y="3681360"/>
              <a:ext cx="344520" cy="34272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2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1193760" y="3763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1447920" y="3684600"/>
              <a:ext cx="792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47920" y="37638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538280" y="3681360"/>
              <a:ext cx="344520" cy="34272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2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1542960" y="3763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1797120" y="368460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97120" y="37638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889280" y="3681360"/>
              <a:ext cx="34272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4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2"/>
                  </a:lnTo>
                  <a:lnTo>
                    <a:pt x="215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1893600" y="37638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2147760" y="368460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147760" y="37638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9920" y="3681360"/>
              <a:ext cx="34308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1" y="215"/>
                  </a:lnTo>
                  <a:lnTo>
                    <a:pt x="215" y="162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2244600" y="3763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2498760" y="368460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98760" y="37638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12680" y="3857400"/>
              <a:ext cx="34308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4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1"/>
                  </a:lnTo>
                  <a:lnTo>
                    <a:pt x="215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1017360" y="39402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71520" y="385884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271520" y="39402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63680" y="3857400"/>
              <a:ext cx="34272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1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1368360" y="39402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1622520" y="385884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622520" y="39402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14320" y="3857400"/>
              <a:ext cx="34308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1" y="215"/>
                  </a:lnTo>
                  <a:lnTo>
                    <a:pt x="215" y="161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1719000" y="39402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1973160" y="38588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73160" y="39402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063880" y="3857400"/>
              <a:ext cx="344520" cy="34308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1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2068560" y="39402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2324160" y="3858840"/>
              <a:ext cx="792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324160" y="39402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38080" y="4032000"/>
              <a:ext cx="34308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1" y="215"/>
                  </a:lnTo>
                  <a:lnTo>
                    <a:pt x="215" y="161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842760" y="41148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1096920" y="403344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096920" y="41148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187280" y="4032000"/>
              <a:ext cx="344520" cy="34308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1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1193760" y="4114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1447920" y="4033440"/>
              <a:ext cx="792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47920" y="41148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38280" y="4032000"/>
              <a:ext cx="344520" cy="34308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1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1542960" y="4114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1797120" y="403344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97120" y="41148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889280" y="4032000"/>
              <a:ext cx="34272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4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1"/>
                  </a:lnTo>
                  <a:lnTo>
                    <a:pt x="215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1893600" y="41148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2147760" y="403344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47760" y="41148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838080" y="3157560"/>
            <a:ext cx="1919520" cy="866520"/>
            <a:chOff x="838080" y="3157560"/>
            <a:chExt cx="1919520" cy="866520"/>
          </a:xfrm>
        </p:grpSpPr>
        <p:sp>
          <p:nvSpPr>
            <p:cNvPr id="602" name=""/>
            <p:cNvSpPr/>
            <p:nvPr/>
          </p:nvSpPr>
          <p:spPr>
            <a:xfrm>
              <a:off x="1363680" y="3157560"/>
              <a:ext cx="34272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1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1368360" y="32400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1622520" y="315864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622520" y="32400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14320" y="3157560"/>
              <a:ext cx="34308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1" y="215"/>
                  </a:lnTo>
                  <a:lnTo>
                    <a:pt x="215" y="161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1719000" y="32400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1973160" y="31586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73160" y="32400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063880" y="3157560"/>
              <a:ext cx="344520" cy="34272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1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2068560" y="32400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2324160" y="3158640"/>
              <a:ext cx="792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24160" y="32400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14520" y="3157560"/>
              <a:ext cx="34308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4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1"/>
                  </a:lnTo>
                  <a:lnTo>
                    <a:pt x="215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419200" y="32400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2673360" y="315864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73360" y="32400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187280" y="3332160"/>
              <a:ext cx="344520" cy="34272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1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1193760" y="34146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1447920" y="3333240"/>
              <a:ext cx="792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447920" y="34146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538280" y="3332160"/>
              <a:ext cx="344520" cy="34272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1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1542960" y="34146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1797120" y="333324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97120" y="34146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889280" y="3332160"/>
              <a:ext cx="34272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4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1"/>
                  </a:lnTo>
                  <a:lnTo>
                    <a:pt x="215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1893600" y="3414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2147760" y="333324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47760" y="34146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239920" y="3332160"/>
              <a:ext cx="34308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1" y="215"/>
                  </a:lnTo>
                  <a:lnTo>
                    <a:pt x="215" y="161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2244600" y="34146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2498760" y="333324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498760" y="34146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012680" y="3506760"/>
              <a:ext cx="34308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4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2"/>
                  </a:lnTo>
                  <a:lnTo>
                    <a:pt x="215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1017360" y="35892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1271520" y="350928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71520" y="35892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363680" y="3506760"/>
              <a:ext cx="34272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2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1368360" y="35892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1622520" y="350928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22520" y="35892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14320" y="3506760"/>
              <a:ext cx="34308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1" y="215"/>
                  </a:lnTo>
                  <a:lnTo>
                    <a:pt x="215" y="162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1719000" y="35892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1973160" y="35092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973160" y="35892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063880" y="3506760"/>
              <a:ext cx="344520" cy="34272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2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2068560" y="35892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2324160" y="3509280"/>
              <a:ext cx="792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324160" y="35892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8080" y="3681360"/>
              <a:ext cx="34308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1" y="215"/>
                  </a:lnTo>
                  <a:lnTo>
                    <a:pt x="215" y="162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842760" y="37638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1096920" y="368460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96920" y="37638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87280" y="3681360"/>
              <a:ext cx="344520" cy="34272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2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1193760" y="3763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1447920" y="3684600"/>
              <a:ext cx="792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447920" y="37638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538280" y="3681360"/>
              <a:ext cx="344520" cy="34272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2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1542960" y="3763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797120" y="368460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797120" y="37638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889280" y="3681360"/>
              <a:ext cx="34272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4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2"/>
                  </a:lnTo>
                  <a:lnTo>
                    <a:pt x="215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1893600" y="37638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2147760" y="368460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47760" y="37638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838080" y="2806560"/>
            <a:ext cx="1919520" cy="868320"/>
            <a:chOff x="838080" y="2806560"/>
            <a:chExt cx="1919520" cy="868320"/>
          </a:xfrm>
        </p:grpSpPr>
        <p:sp>
          <p:nvSpPr>
            <p:cNvPr id="667" name=""/>
            <p:cNvSpPr/>
            <p:nvPr/>
          </p:nvSpPr>
          <p:spPr>
            <a:xfrm>
              <a:off x="1363680" y="2806560"/>
              <a:ext cx="34272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2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1368360" y="28890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1622520" y="280980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622520" y="28890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714320" y="2806560"/>
              <a:ext cx="34308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1" y="215"/>
                  </a:lnTo>
                  <a:lnTo>
                    <a:pt x="215" y="162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1719000" y="28890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1973160" y="2809800"/>
              <a:ext cx="7956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973160" y="28890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063880" y="2806560"/>
              <a:ext cx="344520" cy="34272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2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2068560" y="28890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2324160" y="2809800"/>
              <a:ext cx="792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24160" y="28890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414520" y="2806560"/>
              <a:ext cx="34308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4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2"/>
                  </a:lnTo>
                  <a:lnTo>
                    <a:pt x="215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2419200" y="28890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2673360" y="280980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73360" y="28890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187280" y="2981160"/>
              <a:ext cx="344520" cy="34308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2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1193760" y="30636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1447920" y="2984400"/>
              <a:ext cx="792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447920" y="30636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38280" y="2981160"/>
              <a:ext cx="344520" cy="34308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2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1542960" y="30636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1797120" y="298440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97120" y="30636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89280" y="2981160"/>
              <a:ext cx="34272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4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2"/>
                  </a:lnTo>
                  <a:lnTo>
                    <a:pt x="215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1893600" y="3063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147760" y="298440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47760" y="30636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39920" y="2981160"/>
              <a:ext cx="34308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4"/>
                  </a:lnTo>
                  <a:lnTo>
                    <a:pt x="0" y="215"/>
                  </a:lnTo>
                  <a:lnTo>
                    <a:pt x="161" y="215"/>
                  </a:lnTo>
                  <a:lnTo>
                    <a:pt x="215" y="162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2244600" y="30636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2498760" y="298440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498760" y="30636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12680" y="3157560"/>
              <a:ext cx="34308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4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1"/>
                  </a:lnTo>
                  <a:lnTo>
                    <a:pt x="215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1017360" y="32400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1271520" y="315864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271520" y="32400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363680" y="3157560"/>
              <a:ext cx="34272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1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1368360" y="32400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1622520" y="315864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622520" y="32400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14320" y="3157560"/>
              <a:ext cx="34308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1" y="215"/>
                  </a:lnTo>
                  <a:lnTo>
                    <a:pt x="215" y="161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719000" y="32400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1973160" y="31586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73160" y="32400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63880" y="3157560"/>
              <a:ext cx="344520" cy="34272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1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2068560" y="32400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2324160" y="3158640"/>
              <a:ext cx="792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324160" y="32400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38080" y="3332160"/>
              <a:ext cx="34308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3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1" y="215"/>
                  </a:lnTo>
                  <a:lnTo>
                    <a:pt x="215" y="161"/>
                  </a:lnTo>
                  <a:lnTo>
                    <a:pt x="215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842760" y="3414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1096920" y="333324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96920" y="34146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187280" y="3332160"/>
              <a:ext cx="344520" cy="34272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1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1193760" y="34146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1447920" y="3333240"/>
              <a:ext cx="792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447920" y="34146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538280" y="3332160"/>
              <a:ext cx="344520" cy="34272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54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6" y="161"/>
                  </a:lnTo>
                  <a:lnTo>
                    <a:pt x="216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1542960" y="34146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1797120" y="333324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797120" y="34146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889280" y="3332160"/>
              <a:ext cx="342720" cy="34272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54" y="0"/>
                  </a:moveTo>
                  <a:lnTo>
                    <a:pt x="0" y="53"/>
                  </a:lnTo>
                  <a:lnTo>
                    <a:pt x="0" y="215"/>
                  </a:lnTo>
                  <a:lnTo>
                    <a:pt x="162" y="215"/>
                  </a:lnTo>
                  <a:lnTo>
                    <a:pt x="215" y="161"/>
                  </a:lnTo>
                  <a:lnTo>
                    <a:pt x="215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1893600" y="3414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2147760" y="333324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47760" y="341460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607680" y="2319480"/>
            <a:ext cx="3078720" cy="1933200"/>
            <a:chOff x="607680" y="2319480"/>
            <a:chExt cx="3078720" cy="1933200"/>
          </a:xfrm>
        </p:grpSpPr>
        <p:sp>
          <p:nvSpPr>
            <p:cNvPr id="732" name=""/>
            <p:cNvSpPr/>
            <p:nvPr/>
          </p:nvSpPr>
          <p:spPr>
            <a:xfrm>
              <a:off x="607680" y="2319480"/>
              <a:ext cx="30787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Multidimensionaler</a:t>
              </a: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 "</a:t>
              </a: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Datenwürfel</a:t>
              </a: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"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1254960" y="3551400"/>
              <a:ext cx="855720" cy="701280"/>
              <a:chOff x="1254960" y="3551400"/>
              <a:chExt cx="855720" cy="701280"/>
            </a:xfrm>
          </p:grpSpPr>
          <p:sp>
            <p:nvSpPr>
              <p:cNvPr id="734" name=""/>
              <p:cNvSpPr/>
              <p:nvPr/>
            </p:nvSpPr>
            <p:spPr>
              <a:xfrm>
                <a:off x="1279440" y="3578400"/>
                <a:ext cx="793800" cy="662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256400" y="3551400"/>
                <a:ext cx="6832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100" spc="-1" strike="noStrike">
                    <a:solidFill>
                      <a:srgbClr val="000000"/>
                    </a:solidFill>
                    <a:latin typeface="Arial"/>
                  </a:rPr>
                  <a:t>Umsatz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257120" y="3699000"/>
                <a:ext cx="6436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100" spc="-1" strike="noStrike">
                    <a:solidFill>
                      <a:srgbClr val="000000"/>
                    </a:solidFill>
                    <a:latin typeface="Arial"/>
                  </a:rPr>
                  <a:t>Absatz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254960" y="3845160"/>
                <a:ext cx="855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100" spc="-1" strike="noStrike">
                    <a:solidFill>
                      <a:srgbClr val="000000"/>
                    </a:solidFill>
                    <a:latin typeface="Arial"/>
                  </a:rPr>
                  <a:t>Potential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254960" y="3992760"/>
                <a:ext cx="303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1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Daten“veredelung“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gangspunkt: Absolutw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änderung gegenüber anderen Perio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weichung zum Plan, Hochrechnung, Szenar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otienten: Kennza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trag, Leistung, Struktur 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ndard-Systeme: ZVEI, DuPon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ividuelle Ansätze: Balanced Score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knüpfung mit externen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dere Unternehmen: Benchm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tdaten (z.B. GfK): Bezug zum Konsumverhalten, Kaufkraftabschöpfung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OLAP Typen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l Time O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Ergebnisse werden zum Abfragezeitpunkt berech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r die Basisdaten werden im Würfel gehal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eine Würf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 Datenänderung wird sofort trans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eingabe in den Würfel z.B. bei Pla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ufzeitverhalten bei großen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Anzeige der Summe aller Komponenten dauert am längst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sicherheit der direkt erfassten W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dukte: APPLIX TM/1, MIS ALEA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OLAP Typen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tch O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m Importvorgang werden Zwischenergebnisse vorberech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teil: Antwortszeitverha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Anzeige der Summe aller Komponenten geht am schnell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tei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explosion (Würfelgröß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lanung (Datenerfassung) umständ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ukte: MS Analysis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Datenbanken: OLAP vs. relational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gru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danw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habteil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inges bis mittleres IT Know 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chti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fache Bedie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rze Anlern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uitivere“ Abfrageoberfläche als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on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arch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ltidimensionale Matri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nutzeroberflä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5651640" y="1484280"/>
            <a:ext cx="863640" cy="6876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5508720" y="4653000"/>
            <a:ext cx="1224000" cy="807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Aufgaben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ndard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ischer Aufbau: Kombination Listen u. Graf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ilosophie: was ist an Stelle x l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ception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ynamischer Aufbau: Besonderheiten werden berich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ilosophie: wo ist etwas Ungewöhnliches lo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d-hoc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tuationsbezogene Zusammenstellung v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ilosophie: Freitags-nachmittags 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Grundidee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spositive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heitliche, abgestimmte Daten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rchivierung z.B. bei Systemwechsel des operative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tlastung v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iven Sys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T Abtei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dbenutzer erhal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frage- und Analysewerkze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“raum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ertungs/Analysebiblioth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Ebenenkonzept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3733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lsyst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ive- (E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lanung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nst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W /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ebene zur Datenhaltung und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W / Benut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frage-orientierte Datenhaltung, häufig O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1143000"/>
            <a:ext cx="3352680" cy="1066680"/>
          </a:xfrm>
          <a:prstGeom prst="rect">
            <a:avLst/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3276720"/>
            <a:ext cx="3352680" cy="1066680"/>
          </a:xfrm>
          <a:prstGeom prst="rect">
            <a:avLst/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a Warehouse /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2209680"/>
            <a:ext cx="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934320" y="4952880"/>
            <a:ext cx="1054080" cy="1066680"/>
            <a:chOff x="6934320" y="4952880"/>
            <a:chExt cx="1054080" cy="1066680"/>
          </a:xfrm>
        </p:grpSpPr>
        <p:sp>
          <p:nvSpPr>
            <p:cNvPr id="53" name=""/>
            <p:cNvSpPr/>
            <p:nvPr/>
          </p:nvSpPr>
          <p:spPr>
            <a:xfrm>
              <a:off x="6934320" y="4965480"/>
              <a:ext cx="1054080" cy="1054080"/>
            </a:xfrm>
            <a:prstGeom prst="cube">
              <a:avLst>
                <a:gd name="adj" fmla="val 24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34320" y="549252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34320" y="575928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023240" y="513684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12160" y="504792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94600" y="5232240"/>
              <a:ext cx="0" cy="7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61360" y="5232240"/>
              <a:ext cx="0" cy="7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817040" y="5143320"/>
              <a:ext cx="0" cy="7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905960" y="5054400"/>
              <a:ext cx="0" cy="7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7201080" y="4952880"/>
              <a:ext cx="2541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7467840" y="4952880"/>
              <a:ext cx="25380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7734600" y="5219280"/>
              <a:ext cx="25380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7734600" y="5486040"/>
              <a:ext cx="25380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257800" y="4952880"/>
            <a:ext cx="1054080" cy="1066680"/>
            <a:chOff x="5257800" y="4952880"/>
            <a:chExt cx="1054080" cy="1066680"/>
          </a:xfrm>
        </p:grpSpPr>
        <p:sp>
          <p:nvSpPr>
            <p:cNvPr id="67" name=""/>
            <p:cNvSpPr/>
            <p:nvPr/>
          </p:nvSpPr>
          <p:spPr>
            <a:xfrm>
              <a:off x="5257800" y="4965480"/>
              <a:ext cx="1054080" cy="1054080"/>
            </a:xfrm>
            <a:prstGeom prst="cube">
              <a:avLst>
                <a:gd name="adj" fmla="val 24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57800" y="549252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57800" y="575928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46720" y="513684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35640" y="504792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18080" y="5232240"/>
              <a:ext cx="0" cy="7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84840" y="5232240"/>
              <a:ext cx="0" cy="7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40520" y="5143320"/>
              <a:ext cx="0" cy="7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29440" y="5054400"/>
              <a:ext cx="0" cy="7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524560" y="4952880"/>
              <a:ext cx="2541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791320" y="4952880"/>
              <a:ext cx="25380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6058080" y="5219280"/>
              <a:ext cx="25380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6058080" y="5486040"/>
              <a:ext cx="25380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 flipH="1">
            <a:off x="5866920" y="4343400"/>
            <a:ext cx="22860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4343400"/>
            <a:ext cx="15264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Umfang</a:t>
            </a: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ü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llständiger Sammlung aller Unternehmens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teil: kaum realisierbar und unwirtschaft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orientierter Ansa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DW unterstützt betriebliche Entscheidungen und enthält die dafür benötigten Daten nach einem einheitlichen Konz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teil: Wirtschaftlich und gut skalier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Konstruktion 1: Output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gangspunkt: zu unterstützende Entschei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nötigte Datenstrukt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nden, Artikel, Kostenstellen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satz, Umsatz, Gutschriften, Materialeinsatz 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taillierungsg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to/Kontengruppe, Tag/Monat/Qua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ual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, monatlich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l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bucht auf „Sonstige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st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tzte n Jah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Konstruktion 2: Input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heck: Benötigte Rohdaten für Ergeb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handen ? Welche Quellsystem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litä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griffsart: Filetransfer, Durchgri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nötigte Feld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lüs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bank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chtig: Strukturen wie sog. Normalformen sind optimiert für die eingesetzten Programme, nicht für die Weiterverwendung im Data Ware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Strukturanpassung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lsyst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abhängig entwick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nsaktionsorientierte Strukt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chwind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ielstru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 Schema: Standard für dispositive Syst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ntrale Faktentab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rnförmig darum angeordnete Dimensionstab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zit: Umstrukturierung ist notwen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Daten bewegen (ETL)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trak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nahme aus den Vorsystemen (Kop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litätssich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nden Nr. eindeut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jede Kd. Nr. ein Stammsatz vorha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umsfelder gültige W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strukturierung auf Zielstru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der analytischen Datenbestände (OLAP Würf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OLAP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6448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griff: OnLine Analytical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ukturelement: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t: Jan, Feb, Mä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nde: 007,008,009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dukt: 4711, 4712, 47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art: Ist, Plan, 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nnzahlen: Absatz, Umsatz,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liebige aufzählbare Strukt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 Stärke in der Darstellung von Hierarch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n, Feb, März -&gt; 1. Quartal ...-&gt; 1. Hj. - &gt; Jahr Ges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art Ist – Plan -&gt; Abwei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alog Artikel-, Kundengruppen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1916280"/>
            <a:ext cx="1505160" cy="1614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09:37:45Z</dcterms:created>
  <dc:creator>Dr. Holthaus und Partner</dc:creator>
  <dc:description/>
  <dc:language>en-US</dc:language>
  <cp:lastModifiedBy>Dr. Christian Ho..</cp:lastModifiedBy>
  <dcterms:modified xsi:type="dcterms:W3CDTF">2002-11-21T10:42:55Z</dcterms:modified>
  <cp:revision>25</cp:revision>
  <dc:subject/>
  <dc:title>Data Warehouse</dc:title>
</cp:coreProperties>
</file>