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E6E-B906-4BA5-B94E-428751E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AD0-E446-4091-8FF6-9DFC9DFE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E9C-0835-4308-8B79-235C66DB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2DD-890C-401B-AE2F-DF9B3152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9DE-1C40-436E-BEDB-53A8384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400-72DF-4ACD-8CB7-57346F3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B6D-BB9A-49F2-930E-FCAE53E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A4F-E990-4534-9F53-BD2CDCD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AF4-9851-4417-8DDA-D5F4D82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A92-CC35-47F4-99F9-DB156A0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E4F-0B36-466B-96C9-1DBDF8F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4D7-2E26-4E96-8A06-E4FFCE1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76F-FB5B-4F8C-9E2B-F0A1E5FD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W Projekt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Ziele und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lotprojekt/Machbarkeitstu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nahme der Rohdaten (Ausschni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Fehlerbehandlung und Säub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formation in vereinfachte Ziel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llen des/der Wür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halten: Laufzeit ETL, Antwortzeit, Speicherplatzbed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ologie-Kennenlernen für Endbenu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Spezielle Systemeigenschaft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Planung mit Real Time O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eingabe direkt in den Wür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daten werden nur im OLAP System ge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chen von Dimensionselementen führt zu Löschung der Teilwür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sansat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choperationen abf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Einflußfaktoren Projektaufwand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zenz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Benu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setzte Werkzeuge und Ober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nstleis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lex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k (VSAM oder Daten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qu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eroberflä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g Bu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 Zu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Projektteilnehme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 / Fachabteilung (Contro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erflä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gebni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utzung und Änderung vordefinierte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affung eigener Oberflä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ung eigener Strukturen: Kenn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 /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tellung vo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ormation über 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eitstellung Infra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Projektteam HuP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- und Struktur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, kaufmännisch u. 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L (größte Einzelposi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: Datenba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er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Ziel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, kaufmännisch u. 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: Datenba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Oberflä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, kaufmännisch u. 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ie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lung / Einfü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ater, kaufmännisch u. 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Projektstruktur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lett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üsselfertige“ Erstellung des DW incl. ETL und Benutzeroberflä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atung zum Selbstaufbau eines 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gl. Architektenleist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eines produktiv einsetzbaren Teil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w How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treuung beim weiteren Selbst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Fallen und „Tretminen“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Schwierigkeiten bei der Re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ige Standardf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h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danw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Konzeptionsfehle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Würfel für 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iele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enze i.d.R. 10 –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iele Hierarchiest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ratsdimen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unhandliche Resourcen-intensive Wür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ange Ladez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hoher Speicherplatzbedar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onentielles Wachstum mit Anzahl Dimen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Überforderung der Endbenu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: anwendungsbezogene „schlanke“ Wür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Konzeptionsfehler (2)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lette Histor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gehende Abbildung alter Struktu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ti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unübersichtliche, mächtige Dimen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rem Benutzerunfreund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: letzte Struktur gi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peicherung wichtiger Struktur-Meilenst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Rohdat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qu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nde Stamm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verwendete“ Schlüs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erarchieinformation ungepflegt z.B. Kunden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ucht auf „sonsti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ültige Datumsfe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kumentation (fehlend oder fehlerh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B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ellen- oder Satzbeschrei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Endbenutze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wendergru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g-Buttom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egentliche Benu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wer User, Analytik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 Powe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raktionsfäh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rolling Pro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9:37:45Z</dcterms:created>
  <dc:creator>Dr. Holthaus und Partner</dc:creator>
  <dc:description/>
  <dc:language>en-US</dc:language>
  <cp:lastModifiedBy>Dr. Christian Ho..</cp:lastModifiedBy>
  <dcterms:modified xsi:type="dcterms:W3CDTF">2002-11-21T10:40:53Z</dcterms:modified>
  <cp:revision>25</cp:revision>
  <dc:subject/>
  <dc:title>Data Warehouse</dc:title>
</cp:coreProperties>
</file>