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DF5-AE1B-4767-9E2F-081E5F8D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556-671A-4F26-A0CA-601BC28C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484-5E3F-4F11-8112-07BB3E3F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D39-C35B-4688-8109-706337B0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F1C-2ECA-45B0-9D4C-23AA62A6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A41-48BD-4247-81BA-005AF397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7C6-3B89-45C0-B901-57FF3E1B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2BC-C690-4346-BC1C-C3E4A071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71B-6CB3-4DCB-814E-AA35D49E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4FE-C763-4AD3-BDBE-4628D1E5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60C-1FFB-4BBB-B457-48861B88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EC7-EECD-4564-8367-1FC73595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68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361B-AB1D-45E3-ADC2-F6AAFBEFE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7621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Benutzeroberfläch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 Standard, abhängig vom Produ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S Analysis Services (MS SQL Server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cel Pivot 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cel Integration (Add-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fice Pivot Table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kte von Drittanbietern (Cubeware Cockpit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alytische Methodenbank: Delta M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16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9360">
            <a:solidFill>
              <a:srgbClr val="2168b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168b7"/>
                </a:solidFill>
                <a:latin typeface="Arial"/>
              </a:rPr>
              <a:t>OLAP: Basistechniken</a:t>
            </a:r>
            <a:endParaRPr b="1" lang="en-US" sz="3200" spc="-1" strike="noStrike">
              <a:solidFill>
                <a:srgbClr val="2168b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rill Down / Roll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Hierarchie-Ebene abwärts /aufwärts be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 / weniger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Wechsel Bundesland auf Landkrei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„Scheibe“ aus dem Würfel schn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Auswahl einer Produktgrupp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arstellungsachsen ändern (Würfel dreh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X-Achse Jahr verändern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9:37:45Z</dcterms:created>
  <dc:creator>Dr. Holthaus und Partner</dc:creator>
  <dc:description/>
  <dc:language>en-US</dc:language>
  <cp:lastModifiedBy>Holger</cp:lastModifiedBy>
  <dcterms:modified xsi:type="dcterms:W3CDTF">2003-04-23T08:59:14Z</dcterms:modified>
  <cp:revision>26</cp:revision>
  <dc:subject/>
  <dc:title>Data Warehouse</dc:title>
</cp:coreProperties>
</file>