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F3F-758D-4B31-A512-A9AC3363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750-B8D6-4449-A7A0-D9C38B1D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A5F-3E1C-4956-A148-C7F7E717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E5C-9FF5-41C8-A16F-37B5A82D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CF9-CA19-4816-92D3-1A5C7819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92B-458B-46A2-A9DF-4107A161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FA6-BADE-4E70-9615-06E3CAC7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B23-82D0-4C63-BF73-A3B66616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A45-FD53-4F33-AD7F-B4957F94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23B-9522-46F4-8E59-78F3C249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DCF-55B5-45B6-9B4E-4A9920AA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648-B34E-4859-8681-D9601FA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5D45-4E80-4495-8C0D-0F0C09D6E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_NEU2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114300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W und OLAP mit MS-SQL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technischer Abl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LOGO_NEU2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596960" cy="1676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Einfaches "Lokales Paket"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Demo%20Aufbau%20DW-44_1" descr=""/>
          <p:cNvPicPr/>
          <p:nvPr/>
        </p:nvPicPr>
        <p:blipFill>
          <a:blip r:embed="rId1"/>
          <a:stretch/>
        </p:blipFill>
        <p:spPr>
          <a:xfrm>
            <a:off x="590400" y="1405080"/>
            <a:ext cx="7963200" cy="4047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Modellieren der Datamats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6781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en von Fakten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en von Dimension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as Starschema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Star-Schema besteht a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r  zentralen Fakten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zentrale  denormalisierte  Faktentabelle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ichert die Werte/ Fakten (Meas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satz, Absatz, Wareneinsatz u.s.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geben” die Faktentabelle und speichern beschreibende Informationen zu den Fa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Beispielstruktur der Fakten und </a:t>
            </a:r>
            <a:br>
              <a:rPr sz="3200"/>
            </a:b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imensionstabell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156" name="Demo%20Aufbau%20DW-31_1" descr=""/>
          <p:cNvPicPr/>
          <p:nvPr/>
        </p:nvPicPr>
        <p:blipFill>
          <a:blip r:embed="rId1"/>
          <a:stretch/>
        </p:blipFill>
        <p:spPr>
          <a:xfrm>
            <a:off x="838080" y="1238400"/>
            <a:ext cx="7239240" cy="5438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as Starschema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6800" y="1981080"/>
            <a:ext cx="4572000" cy="4114800"/>
          </a:xfrm>
          <a:prstGeom prst="star5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2080" y="1066680"/>
            <a:ext cx="1905120" cy="3049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Mitarbeiter_D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1371600"/>
            <a:ext cx="1901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tarbeite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676520"/>
            <a:ext cx="1901880" cy="685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Mitarbeite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Mitarbeiter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1371600"/>
            <a:ext cx="1901880" cy="3049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tarbeite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960" y="2971800"/>
            <a:ext cx="1905120" cy="3049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Zeit_D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276720"/>
            <a:ext cx="190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Zeit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581280"/>
            <a:ext cx="1901880" cy="685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276720"/>
            <a:ext cx="1901880" cy="30456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Zeit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75560" y="2514600"/>
            <a:ext cx="1904760" cy="3049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rodukt_D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78800" y="2819520"/>
            <a:ext cx="19015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k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78800" y="3124080"/>
            <a:ext cx="190152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Produkt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Produk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Produktgru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Herst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819520"/>
            <a:ext cx="1901880" cy="30456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k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88080" y="5486400"/>
            <a:ext cx="1905120" cy="3049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Kunde_D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5791320"/>
            <a:ext cx="1901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ustomer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6095880"/>
            <a:ext cx="1901880" cy="308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Custome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88080" y="5791320"/>
            <a:ext cx="1901880" cy="30456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unden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2400" y="5486400"/>
            <a:ext cx="1904760" cy="3049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Lieferanten_D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2400" y="5791320"/>
            <a:ext cx="19047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ieferanten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2400" y="6095880"/>
            <a:ext cx="1904760" cy="316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Liefereanten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5791320"/>
            <a:ext cx="1905120" cy="30456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ieferanten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2080" y="3276720"/>
            <a:ext cx="1905120" cy="304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8665"/>
              </a:gs>
            </a:gsLst>
            <a:lin ang="5400000"/>
          </a:gra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Umsatz_Fak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581280"/>
            <a:ext cx="19018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Zeit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tarbeite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kt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unden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ieferanten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4724280"/>
            <a:ext cx="1901880" cy="83844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M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Pr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3581280"/>
            <a:ext cx="190188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Zeitschlüs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4267080"/>
            <a:ext cx="190188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undenschlüs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495680"/>
            <a:ext cx="190188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ieferanten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4038480"/>
            <a:ext cx="190188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oduktschlüs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3809880"/>
            <a:ext cx="190188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tarbeite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30880" y="3505320"/>
            <a:ext cx="2440800" cy="1218960"/>
            <a:chOff x="5330880" y="3505320"/>
            <a:chExt cx="2440800" cy="1218960"/>
          </a:xfrm>
        </p:grpSpPr>
        <p:sp>
          <p:nvSpPr>
            <p:cNvPr id="188" name=""/>
            <p:cNvSpPr/>
            <p:nvPr/>
          </p:nvSpPr>
          <p:spPr>
            <a:xfrm>
              <a:off x="5330880" y="3505320"/>
              <a:ext cx="332640" cy="1218960"/>
            </a:xfrm>
            <a:custGeom>
              <a:avLst/>
              <a:gdLst/>
              <a:ahLst/>
              <a:rect l="l" t="t" r="r" b="b"/>
              <a:pathLst>
                <a:path w="144" h="864">
                  <a:moveTo>
                    <a:pt x="0" y="816"/>
                  </a:moveTo>
                  <a:lnTo>
                    <a:pt x="0" y="864"/>
                  </a:lnTo>
                  <a:lnTo>
                    <a:pt x="144" y="864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96" y="48"/>
                  </a:lnTo>
                  <a:lnTo>
                    <a:pt x="96" y="816"/>
                  </a:lnTo>
                  <a:lnTo>
                    <a:pt x="0" y="816"/>
                  </a:lnTo>
                  <a:close/>
                </a:path>
              </a:pathLst>
            </a:custGeom>
            <a:gradFill rotWithShape="0">
              <a:gsLst>
                <a:gs pos="0">
                  <a:srgbClr val="a4a4e7"/>
                </a:gs>
                <a:gs pos="100000">
                  <a:srgbClr val="3333cc"/>
                </a:gs>
              </a:gsLst>
              <a:lin ang="13500000"/>
            </a:gra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63520" y="4038480"/>
              <a:ext cx="2108160" cy="381240"/>
            </a:xfrm>
            <a:prstGeom prst="leftArrow">
              <a:avLst>
                <a:gd name="adj1" fmla="val 62500"/>
                <a:gd name="adj2" fmla="val 151581"/>
              </a:avLst>
            </a:prstGeom>
            <a:gradFill rotWithShape="0">
              <a:gsLst>
                <a:gs pos="0">
                  <a:srgbClr val="a4a4e7"/>
                </a:gs>
                <a:gs pos="100000">
                  <a:srgbClr val="3333cc"/>
                </a:gs>
              </a:gsLst>
              <a:lin ang="135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imensionsschlüs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30880" y="4724280"/>
            <a:ext cx="2517120" cy="609840"/>
            <a:chOff x="5330880" y="4724280"/>
            <a:chExt cx="2517120" cy="609840"/>
          </a:xfrm>
        </p:grpSpPr>
        <p:sp>
          <p:nvSpPr>
            <p:cNvPr id="191" name=""/>
            <p:cNvSpPr/>
            <p:nvPr/>
          </p:nvSpPr>
          <p:spPr>
            <a:xfrm>
              <a:off x="5330880" y="4724280"/>
              <a:ext cx="343080" cy="609840"/>
            </a:xfrm>
            <a:custGeom>
              <a:avLst/>
              <a:gdLst/>
              <a:ahLst/>
              <a:rect l="l" t="t" r="r" b="b"/>
              <a:pathLst>
                <a:path w="144" h="384">
                  <a:moveTo>
                    <a:pt x="0" y="0"/>
                  </a:moveTo>
                  <a:lnTo>
                    <a:pt x="144" y="0"/>
                  </a:lnTo>
                  <a:lnTo>
                    <a:pt x="144" y="384"/>
                  </a:lnTo>
                  <a:lnTo>
                    <a:pt x="0" y="384"/>
                  </a:lnTo>
                  <a:lnTo>
                    <a:pt x="0" y="336"/>
                  </a:lnTo>
                  <a:lnTo>
                    <a:pt x="96" y="336"/>
                  </a:lnTo>
                  <a:lnTo>
                    <a:pt x="96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4a4e7"/>
                </a:gs>
                <a:gs pos="100000">
                  <a:srgbClr val="3333cc"/>
                </a:gs>
              </a:gsLst>
              <a:lin ang="13500000"/>
            </a:gra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73960" y="4876920"/>
              <a:ext cx="2174040" cy="380880"/>
            </a:xfrm>
            <a:prstGeom prst="leftArrow">
              <a:avLst>
                <a:gd name="adj1" fmla="val 62500"/>
                <a:gd name="adj2" fmla="val 156466"/>
              </a:avLst>
            </a:prstGeom>
            <a:gradFill rotWithShape="0">
              <a:gsLst>
                <a:gs pos="0">
                  <a:srgbClr val="a4a4e7"/>
                </a:gs>
                <a:gs pos="100000">
                  <a:srgbClr val="3333cc"/>
                </a:gs>
              </a:gsLst>
              <a:lin ang="135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Fak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MS-Analysis Services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467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verlassen die Welt der relationalen Datenb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eren einer Olapdaten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en von Dimens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en von C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Definieren von Dimension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Dimens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ringern der Anzahl aufzubereitender Cu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einsame Dimens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meiden einer Duplizierung von privaten Dimensionen innerhalb jedes Cu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möglichen ein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ubeübergreifenden Standardisierung von Geschäftseinh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8b7"/>
                </a:solidFill>
                <a:latin typeface="Arial"/>
              </a:rPr>
              <a:t>Erstellen von gemeinsamen Dimensionen</a:t>
            </a:r>
            <a:endParaRPr b="1" lang="en-US" sz="28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e oder mehrere Dimensionstab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nquelle, die die Tabellen und Spalten enthä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stabellen mit den Spalten, die enthalten sein so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oder Zeitdim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enen in der gemeinsamen Dim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168b7"/>
                </a:solidFill>
                <a:latin typeface="Arial"/>
              </a:rPr>
              <a:t>Beispiele für gemeinsame Dimensionen</a:t>
            </a: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en von gemeinsamen Dimens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imension Verlag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202" name="Demo%20Aufbau%20DW-39_1" descr=""/>
          <p:cNvPicPr/>
          <p:nvPr/>
        </p:nvPicPr>
        <p:blipFill>
          <a:blip r:embed="rId1"/>
          <a:stretch/>
        </p:blipFill>
        <p:spPr>
          <a:xfrm>
            <a:off x="1022400" y="1028880"/>
            <a:ext cx="709776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Technische Basis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2057040"/>
            <a:ext cx="5715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S-SQL 2000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S Analysi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imension Kunde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204" name="Demo%20Aufbau%20DW-38_1" descr=""/>
          <p:cNvPicPr/>
          <p:nvPr/>
        </p:nvPicPr>
        <p:blipFill>
          <a:blip r:embed="rId1"/>
          <a:stretch/>
        </p:blipFill>
        <p:spPr>
          <a:xfrm>
            <a:off x="1295280" y="1131840"/>
            <a:ext cx="6594480" cy="572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Definieren von Cubes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ben einer Faktentab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eren von Dimens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alten von Aggreg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Einführung in Cubes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43200" y="5105520"/>
            <a:ext cx="2971800" cy="1143000"/>
            <a:chOff x="2743200" y="5105520"/>
            <a:chExt cx="2971800" cy="1143000"/>
          </a:xfrm>
        </p:grpSpPr>
        <p:sp>
          <p:nvSpPr>
            <p:cNvPr id="209" name=""/>
            <p:cNvSpPr/>
            <p:nvPr/>
          </p:nvSpPr>
          <p:spPr>
            <a:xfrm>
              <a:off x="2743200" y="5105520"/>
              <a:ext cx="2971800" cy="1143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3240">
              <a:solidFill>
                <a:srgbClr val="0066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77280" y="5386680"/>
              <a:ext cx="51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28560"/>
                  <a:tab algn="l" pos="1314360"/>
                  <a:tab algn="l" pos="200016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Q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81640" y="5791320"/>
              <a:ext cx="8337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8000" y="538020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Q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83800" y="538020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Q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3280" y="538020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Q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022800" y="1295280"/>
            <a:ext cx="2514600" cy="3353040"/>
            <a:chOff x="6022800" y="1295280"/>
            <a:chExt cx="2514600" cy="3353040"/>
          </a:xfrm>
        </p:grpSpPr>
        <p:sp>
          <p:nvSpPr>
            <p:cNvPr id="216" name=""/>
            <p:cNvSpPr/>
            <p:nvPr/>
          </p:nvSpPr>
          <p:spPr>
            <a:xfrm>
              <a:off x="6022800" y="1295280"/>
              <a:ext cx="2514600" cy="3353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8100000"/>
            </a:gradFill>
            <a:ln w="3240">
              <a:solidFill>
                <a:srgbClr val="0066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42840" y="1371600"/>
              <a:ext cx="12358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56360" y="1523880"/>
              <a:ext cx="116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Traub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56000" y="335268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Äpf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56360" y="2743200"/>
              <a:ext cx="119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l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57080" y="2133720"/>
              <a:ext cx="124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Kirsc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56360" y="3962520"/>
              <a:ext cx="1237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firsi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62120" y="1066680"/>
            <a:ext cx="3124080" cy="1600200"/>
            <a:chOff x="762120" y="1066680"/>
            <a:chExt cx="3124080" cy="1600200"/>
          </a:xfrm>
        </p:grpSpPr>
        <p:sp>
          <p:nvSpPr>
            <p:cNvPr id="224" name=""/>
            <p:cNvSpPr/>
            <p:nvPr/>
          </p:nvSpPr>
          <p:spPr>
            <a:xfrm>
              <a:off x="762120" y="1066680"/>
              <a:ext cx="3124080" cy="1600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ecff"/>
                </a:gs>
              </a:gsLst>
              <a:lin ang="13500000"/>
            </a:gradFill>
            <a:ln w="3240">
              <a:solidFill>
                <a:srgbClr val="0066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9880" y="1066680"/>
              <a:ext cx="13456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14600" y="1295280"/>
              <a:ext cx="102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tla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49280" y="167652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n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42560" y="2057400"/>
              <a:ext cx="987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tro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32120" y="1523880"/>
            <a:ext cx="3339720" cy="3886200"/>
            <a:chOff x="2832120" y="1523880"/>
            <a:chExt cx="3339720" cy="3886200"/>
          </a:xfrm>
        </p:grpSpPr>
        <p:grpSp>
          <p:nvGrpSpPr>
            <p:cNvPr id="230" name=""/>
            <p:cNvGrpSpPr/>
            <p:nvPr/>
          </p:nvGrpSpPr>
          <p:grpSpPr>
            <a:xfrm>
              <a:off x="2832120" y="1523880"/>
              <a:ext cx="3339720" cy="3886200"/>
              <a:chOff x="2832120" y="1523880"/>
              <a:chExt cx="3339720" cy="38862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3441600" y="1523880"/>
                <a:ext cx="2730240" cy="3124080"/>
                <a:chOff x="3441600" y="1523880"/>
                <a:chExt cx="2730240" cy="31240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441600" y="397512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441600" y="33526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441600" y="27432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41600" y="21333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41600" y="15238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127400" y="397512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127400" y="33526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127400" y="27432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127400" y="21333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127400" y="15238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800240" y="397512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00240" y="33526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800240" y="27432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800240" y="21333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00240" y="1523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499000" y="397512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499000" y="33526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499000" y="27432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499000" y="21333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99000" y="15238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136680" y="1904760"/>
                <a:ext cx="2730240" cy="3124080"/>
                <a:chOff x="3136680" y="1904760"/>
                <a:chExt cx="2730240" cy="31240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136680" y="43560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136680" y="37335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136680" y="31240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36680" y="25142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136680" y="190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22480" y="43560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822480" y="37335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822480" y="31240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822480" y="25142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22480" y="190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495320" y="43560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495320" y="37335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495320" y="31240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495320" y="25142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495320" y="19047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194080" y="43560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194080" y="37335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194080" y="31240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194080" y="25142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194080" y="190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832120" y="2286000"/>
                <a:ext cx="2730240" cy="3124080"/>
                <a:chOff x="2832120" y="2286000"/>
                <a:chExt cx="2730240" cy="3124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832120" y="47368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32120" y="41148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832120" y="35049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32120" y="28954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32120" y="22860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517920" y="47368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517920" y="41148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517920" y="35049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517920" y="28954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517920" y="22860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190760" y="4736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90760" y="41148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90760" y="35049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190760" y="28954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190760" y="22860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889520" y="47368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889520" y="41148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889520" y="35049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889520" y="289548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889520" y="22860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889440" y="3351600"/>
              <a:ext cx="8330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S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33520" y="5967360"/>
            <a:ext cx="941400" cy="357120"/>
            <a:chOff x="533520" y="5967360"/>
            <a:chExt cx="941400" cy="357120"/>
          </a:xfrm>
        </p:grpSpPr>
        <p:grpSp>
          <p:nvGrpSpPr>
            <p:cNvPr id="296" name=""/>
            <p:cNvGrpSpPr/>
            <p:nvPr/>
          </p:nvGrpSpPr>
          <p:grpSpPr>
            <a:xfrm>
              <a:off x="533520" y="5967360"/>
              <a:ext cx="442800" cy="357120"/>
              <a:chOff x="533520" y="5967360"/>
              <a:chExt cx="442800" cy="357120"/>
            </a:xfrm>
          </p:grpSpPr>
          <p:sp>
            <p:nvSpPr>
              <p:cNvPr id="297" name=""/>
              <p:cNvSpPr/>
              <p:nvPr/>
            </p:nvSpPr>
            <p:spPr>
              <a:xfrm>
                <a:off x="533520" y="5967360"/>
                <a:ext cx="44280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8960" y="6049800"/>
                <a:ext cx="331920" cy="192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96880" y="6056280"/>
                <a:ext cx="208440" cy="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629" y="19664"/>
                    </a:moveTo>
                    <a:arcTo wR="10800" hR="10800" stAng="7490636" swAng="8823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629" y="19664"/>
                    </a:moveTo>
                    <a:arcTo wR="10800" hR="10800" stAng="7490636" swAng="8823993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3680" y="6105600"/>
                <a:ext cx="20988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1421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142173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031760" y="5967360"/>
              <a:ext cx="443160" cy="357120"/>
              <a:chOff x="1031760" y="5967360"/>
              <a:chExt cx="443160" cy="357120"/>
            </a:xfrm>
          </p:grpSpPr>
          <p:sp>
            <p:nvSpPr>
              <p:cNvPr id="302" name=""/>
              <p:cNvSpPr/>
              <p:nvPr/>
            </p:nvSpPr>
            <p:spPr>
              <a:xfrm>
                <a:off x="1031760" y="5967360"/>
                <a:ext cx="44316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087560" y="6049800"/>
                <a:ext cx="331560" cy="192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143000" y="6105600"/>
                <a:ext cx="20844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49" y="19878"/>
                    </a:moveTo>
                    <a:arcTo wR="10800" hR="10800" stAng="7368319" swAng="89463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49" y="19878"/>
                    </a:moveTo>
                    <a:arcTo wR="10800" hR="10800" stAng="7368319" swAng="8946310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43000" y="6105600"/>
                <a:ext cx="20916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5139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513965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874800" y="6049800"/>
              <a:ext cx="257040" cy="209880"/>
            </a:xfrm>
            <a:prstGeom prst="rightArrow">
              <a:avLst>
                <a:gd name="adj1" fmla="val 54546"/>
                <a:gd name="adj2" fmla="val 90718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832120" y="1523880"/>
            <a:ext cx="5016600" cy="3886200"/>
            <a:chOff x="2832120" y="1523880"/>
            <a:chExt cx="5016600" cy="3886200"/>
          </a:xfrm>
        </p:grpSpPr>
        <p:grpSp>
          <p:nvGrpSpPr>
            <p:cNvPr id="308" name=""/>
            <p:cNvGrpSpPr/>
            <p:nvPr/>
          </p:nvGrpSpPr>
          <p:grpSpPr>
            <a:xfrm>
              <a:off x="2832120" y="1523880"/>
              <a:ext cx="3340080" cy="3886200"/>
              <a:chOff x="2832120" y="1523880"/>
              <a:chExt cx="3340080" cy="3886200"/>
            </a:xfrm>
          </p:grpSpPr>
          <p:sp>
            <p:nvSpPr>
              <p:cNvPr id="309" name=""/>
              <p:cNvSpPr/>
              <p:nvPr/>
            </p:nvSpPr>
            <p:spPr>
              <a:xfrm>
                <a:off x="3441600" y="397512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41600" y="33526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1600" y="27432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41600" y="21337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41600" y="15238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27400" y="397512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27400" y="33526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27400" y="27432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7400" y="21337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27400" y="15238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00600" y="397512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00600" y="33526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00600" y="27432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0600" y="21337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00600" y="15238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99000" y="397512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99000" y="33526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99000" y="27432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99000" y="21337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99000" y="21337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99000" y="15238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36680" y="435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36680" y="37339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36680" y="31240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366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36680" y="19051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22480" y="435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22480" y="37339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22480" y="31240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224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22480" y="19051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95680" y="435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95680" y="37339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31240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956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95680" y="19051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194080" y="435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94080" y="37339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94080" y="31240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940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940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94080" y="19051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32120" y="473724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32120" y="41148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32120" y="35053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517920" y="473724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17920" y="41148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35053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190760" y="473724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90760" y="41148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190760" y="35053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89520" y="473724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89520" y="41148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89520" y="35053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895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895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89520" y="22860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857320" y="28954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43120" y="28954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216320" y="28954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321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32120" y="22860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5179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517920" y="22860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90760" y="28954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90760" y="228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315200" y="2209680"/>
              <a:ext cx="533520" cy="381240"/>
            </a:xfrm>
            <a:prstGeom prst="leftArrow">
              <a:avLst>
                <a:gd name="adj1" fmla="val 33333"/>
                <a:gd name="adj2" fmla="val 78718"/>
              </a:avLst>
            </a:prstGeom>
            <a:gradFill rotWithShape="0">
              <a:gsLst>
                <a:gs pos="0">
                  <a:srgbClr val="e275c7"/>
                </a:gs>
                <a:gs pos="100000">
                  <a:srgbClr val="cc00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369800" y="1295280"/>
            <a:ext cx="7162560" cy="4114440"/>
            <a:chOff x="1369800" y="1295280"/>
            <a:chExt cx="7162560" cy="4114440"/>
          </a:xfrm>
        </p:grpSpPr>
        <p:grpSp>
          <p:nvGrpSpPr>
            <p:cNvPr id="377" name=""/>
            <p:cNvGrpSpPr/>
            <p:nvPr/>
          </p:nvGrpSpPr>
          <p:grpSpPr>
            <a:xfrm>
              <a:off x="1369800" y="1295280"/>
              <a:ext cx="7162560" cy="4114440"/>
              <a:chOff x="1369800" y="1295280"/>
              <a:chExt cx="7162560" cy="4114440"/>
            </a:xfrm>
          </p:grpSpPr>
          <p:sp>
            <p:nvSpPr>
              <p:cNvPr id="378" name=""/>
              <p:cNvSpPr/>
              <p:nvPr/>
            </p:nvSpPr>
            <p:spPr>
              <a:xfrm rot="10800000">
                <a:off x="1369800" y="2057400"/>
                <a:ext cx="533160" cy="380880"/>
              </a:xfrm>
              <a:prstGeom prst="leftArrow">
                <a:avLst>
                  <a:gd name="adj1" fmla="val 33333"/>
                  <a:gd name="adj2" fmla="val 78739"/>
                </a:avLst>
              </a:prstGeom>
              <a:gradFill rotWithShape="0">
                <a:gsLst>
                  <a:gs pos="0">
                    <a:srgbClr val="e275c7"/>
                  </a:gs>
                  <a:gs pos="100000">
                    <a:srgbClr val="cc0099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018120" y="1295280"/>
                <a:ext cx="2514240" cy="3353040"/>
                <a:chOff x="6018120" y="1295280"/>
                <a:chExt cx="2514240" cy="33530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018120" y="1295280"/>
                  <a:ext cx="2514240" cy="3353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fefefe"/>
                    </a:gs>
                  </a:gsLst>
                  <a:lin ang="8100000"/>
                </a:gradFill>
                <a:ln w="3240">
                  <a:solidFill>
                    <a:srgbClr val="006666"/>
                  </a:solidFill>
                  <a:miter/>
                </a:ln>
                <a:effectLst>
                  <a:outerShdw dist="107932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237800" y="1371600"/>
                  <a:ext cx="1235880" cy="42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Product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150960" y="1523880"/>
                  <a:ext cx="1166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Traube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50960" y="3352680"/>
                  <a:ext cx="806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Äpf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150960" y="2743200"/>
                  <a:ext cx="1194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Melone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152040" y="2133720"/>
                  <a:ext cx="12499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Kirsche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150960" y="3962520"/>
                  <a:ext cx="1237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Pfirsich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830320" y="1523880"/>
                <a:ext cx="3339360" cy="3885840"/>
                <a:chOff x="2830320" y="1523880"/>
                <a:chExt cx="3339360" cy="388584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3439440" y="1523880"/>
                  <a:ext cx="2730240" cy="3124080"/>
                  <a:chOff x="3439440" y="1523880"/>
                  <a:chExt cx="2730240" cy="312408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3439440" y="397512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439440" y="33526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439440" y="27432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439440" y="21333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439440" y="15238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125240" y="397512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125240" y="33526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25240" y="27432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125240" y="21333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125240" y="15238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798080" y="3975120"/>
                    <a:ext cx="67320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798080" y="335268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798080" y="2743200"/>
                    <a:ext cx="67320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798080" y="213336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798080" y="152388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5496840" y="397512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496840" y="33526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5496840" y="27432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496840" y="21333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496840" y="15238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3134880" y="1904760"/>
                  <a:ext cx="2729520" cy="3124080"/>
                  <a:chOff x="3134880" y="1904760"/>
                  <a:chExt cx="2729520" cy="31240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3134880" y="435600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134880" y="3733560"/>
                    <a:ext cx="67248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134880" y="312408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134880" y="2514240"/>
                    <a:ext cx="67248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134880" y="1904760"/>
                    <a:ext cx="67248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820320" y="435600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820320" y="3733560"/>
                    <a:ext cx="67248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820320" y="312408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820320" y="2514240"/>
                    <a:ext cx="67248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820320" y="1904760"/>
                    <a:ext cx="67248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493160" y="435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493160" y="37335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493160" y="312408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493160" y="251424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493160" y="19047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191920" y="435600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191920" y="3733560"/>
                    <a:ext cx="67248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191920" y="312408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191920" y="2514240"/>
                    <a:ext cx="67248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191920" y="1904760"/>
                    <a:ext cx="67248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2830320" y="2286000"/>
                  <a:ext cx="2729880" cy="3123720"/>
                  <a:chOff x="2830320" y="2286000"/>
                  <a:chExt cx="2729880" cy="31237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2830320" y="473688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830320" y="411444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830320" y="350496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830320" y="2895480"/>
                    <a:ext cx="672840" cy="67248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830320" y="228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3515760" y="473688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515760" y="411444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3515760" y="350496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3515760" y="2895480"/>
                    <a:ext cx="672840" cy="67248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515760" y="228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188960" y="473688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188960" y="411444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188960" y="350496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88960" y="2895480"/>
                    <a:ext cx="672480" cy="67248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188960" y="2286000"/>
                    <a:ext cx="67248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887360" y="473688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887360" y="411444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4887360" y="350496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887360" y="2895480"/>
                    <a:ext cx="672840" cy="67248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887360" y="228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1" name=""/>
            <p:cNvSpPr/>
            <p:nvPr/>
          </p:nvSpPr>
          <p:spPr>
            <a:xfrm rot="10800000">
              <a:off x="1369800" y="2057400"/>
              <a:ext cx="533160" cy="380880"/>
            </a:xfrm>
            <a:prstGeom prst="leftArrow">
              <a:avLst>
                <a:gd name="adj1" fmla="val 33333"/>
                <a:gd name="adj2" fmla="val 78739"/>
              </a:avLst>
            </a:prstGeom>
            <a:gradFill rotWithShape="0">
              <a:gsLst>
                <a:gs pos="0">
                  <a:srgbClr val="e275c7"/>
                </a:gs>
                <a:gs pos="100000">
                  <a:srgbClr val="cc00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832120" y="1523880"/>
            <a:ext cx="5016600" cy="3886200"/>
            <a:chOff x="2832120" y="1523880"/>
            <a:chExt cx="5016600" cy="3886200"/>
          </a:xfrm>
        </p:grpSpPr>
        <p:grpSp>
          <p:nvGrpSpPr>
            <p:cNvPr id="453" name=""/>
            <p:cNvGrpSpPr/>
            <p:nvPr/>
          </p:nvGrpSpPr>
          <p:grpSpPr>
            <a:xfrm>
              <a:off x="2832120" y="1523880"/>
              <a:ext cx="3340080" cy="3886200"/>
              <a:chOff x="2832120" y="1523880"/>
              <a:chExt cx="3340080" cy="3886200"/>
            </a:xfrm>
          </p:grpSpPr>
          <p:sp>
            <p:nvSpPr>
              <p:cNvPr id="454" name=""/>
              <p:cNvSpPr/>
              <p:nvPr/>
            </p:nvSpPr>
            <p:spPr>
              <a:xfrm>
                <a:off x="3441600" y="397512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41600" y="33526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41600" y="27432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41600" y="21337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41600" y="15238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27400" y="397512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127400" y="33526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127400" y="27432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127400" y="21337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127400" y="15238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397512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800600" y="33526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27432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00600" y="21337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15238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9000" y="397512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499000" y="33526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99000" y="27432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99000" y="21337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499000" y="21337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99000" y="15238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36680" y="435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36680" y="37339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36680" y="31240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366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6680" y="19051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22480" y="435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22480" y="37339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22480" y="31240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224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22480" y="19051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495680" y="435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495680" y="37339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495680" y="31240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4956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95680" y="19051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194080" y="435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94080" y="37339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194080" y="31240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940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1940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94080" y="19051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32120" y="473724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32120" y="41148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832120" y="35053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17920" y="473724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17920" y="41148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517920" y="35053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190760" y="473724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90760" y="41148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90760" y="35053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89520" y="473724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889520" y="41148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889520" y="35053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8895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895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89520" y="22860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57320" y="28954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43120" y="28954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16320" y="28954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321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32120" y="22860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5179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17920" y="22860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90760" y="28954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190760" y="22860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7315200" y="2209680"/>
              <a:ext cx="533520" cy="381240"/>
            </a:xfrm>
            <a:prstGeom prst="leftArrow">
              <a:avLst>
                <a:gd name="adj1" fmla="val 33333"/>
                <a:gd name="adj2" fmla="val 78718"/>
              </a:avLst>
            </a:prstGeom>
            <a:gradFill rotWithShape="0">
              <a:gsLst>
                <a:gs pos="0">
                  <a:srgbClr val="e275c7"/>
                </a:gs>
                <a:gs pos="100000">
                  <a:srgbClr val="cc00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57080" y="1066680"/>
            <a:ext cx="7772400" cy="5334120"/>
            <a:chOff x="757080" y="1066680"/>
            <a:chExt cx="7772400" cy="5334120"/>
          </a:xfrm>
        </p:grpSpPr>
        <p:sp>
          <p:nvSpPr>
            <p:cNvPr id="522" name=""/>
            <p:cNvSpPr/>
            <p:nvPr/>
          </p:nvSpPr>
          <p:spPr>
            <a:xfrm rot="5400000">
              <a:off x="4871160" y="5943240"/>
              <a:ext cx="533520" cy="381240"/>
            </a:xfrm>
            <a:prstGeom prst="leftArrow">
              <a:avLst>
                <a:gd name="adj1" fmla="val 33333"/>
                <a:gd name="adj2" fmla="val 78718"/>
              </a:avLst>
            </a:prstGeom>
            <a:gradFill rotWithShape="0">
              <a:gsLst>
                <a:gs pos="0">
                  <a:srgbClr val="e275c7"/>
                </a:gs>
                <a:gs pos="100000">
                  <a:srgbClr val="cc00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014880" y="1295280"/>
              <a:ext cx="2514600" cy="3353040"/>
              <a:chOff x="6014880" y="1295280"/>
              <a:chExt cx="2514600" cy="3353040"/>
            </a:xfrm>
          </p:grpSpPr>
          <p:sp>
            <p:nvSpPr>
              <p:cNvPr id="524" name=""/>
              <p:cNvSpPr/>
              <p:nvPr/>
            </p:nvSpPr>
            <p:spPr>
              <a:xfrm>
                <a:off x="6014880" y="1295280"/>
                <a:ext cx="2514600" cy="33530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fefefe"/>
                  </a:gs>
                </a:gsLst>
                <a:lin ang="8100000"/>
              </a:gradFill>
              <a:ln w="3240">
                <a:solidFill>
                  <a:srgbClr val="006666"/>
                </a:solidFill>
                <a:miter/>
              </a:ln>
              <a:effectLst>
                <a:outerShdw dist="107932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34920" y="1371600"/>
                <a:ext cx="123588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Produc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48440" y="1523880"/>
                <a:ext cx="1166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Traub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148080" y="3352680"/>
                <a:ext cx="806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Äpf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48440" y="2743200"/>
                <a:ext cx="1194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Mel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49160" y="2133720"/>
                <a:ext cx="12499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Kirsch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48440" y="3962520"/>
                <a:ext cx="1237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Pfirsic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57080" y="1066680"/>
              <a:ext cx="3124080" cy="1600200"/>
              <a:chOff x="757080" y="1066680"/>
              <a:chExt cx="3124080" cy="1600200"/>
            </a:xfrm>
          </p:grpSpPr>
          <p:sp>
            <p:nvSpPr>
              <p:cNvPr id="532" name=""/>
              <p:cNvSpPr/>
              <p:nvPr/>
            </p:nvSpPr>
            <p:spPr>
              <a:xfrm>
                <a:off x="757080" y="1066680"/>
                <a:ext cx="3124080" cy="160020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cecff"/>
                  </a:gs>
                </a:gsLst>
                <a:lin ang="13500000"/>
              </a:gradFill>
              <a:ln w="3240">
                <a:solidFill>
                  <a:srgbClr val="006666"/>
                </a:solidFill>
                <a:miter/>
              </a:ln>
              <a:effectLst>
                <a:outerShdw dist="107932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34840" y="1066680"/>
                <a:ext cx="134568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Locatio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09560" y="1295280"/>
                <a:ext cx="10288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Atlan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244240" y="1676520"/>
                <a:ext cx="1027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Den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937520" y="2057400"/>
                <a:ext cx="9874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Detro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2827080" y="1523880"/>
              <a:ext cx="3340080" cy="3886200"/>
              <a:chOff x="2827080" y="1523880"/>
              <a:chExt cx="3340080" cy="388620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3436920" y="1523880"/>
                <a:ext cx="2730240" cy="3124080"/>
                <a:chOff x="3436920" y="1523880"/>
                <a:chExt cx="2730240" cy="31240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3436920" y="397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436920" y="33526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436920" y="27428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436920" y="21333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36920" y="15238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22720" y="397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22720" y="33526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22720" y="27428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22720" y="21333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122720" y="15238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795560" y="39747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95560" y="33526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795560" y="27428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795560" y="21333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795560" y="15238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494320" y="397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494320" y="33526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494320" y="27428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494320" y="21333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494320" y="15238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132000" y="1904760"/>
                <a:ext cx="2730600" cy="3124080"/>
                <a:chOff x="3132000" y="1904760"/>
                <a:chExt cx="2730600" cy="31240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132000" y="43560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2000" y="37335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32000" y="31240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2000" y="25142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2000" y="19047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817800" y="43560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817800" y="37335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17800" y="31240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817800" y="25142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817800" y="19047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491000" y="43560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491000" y="37335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491000" y="31240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91000" y="25142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491000" y="190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189400" y="43560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189400" y="37335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189400" y="31240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189400" y="25142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189400" y="19047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2827080" y="2285640"/>
                <a:ext cx="2730600" cy="3124440"/>
                <a:chOff x="2827080" y="2285640"/>
                <a:chExt cx="2730600" cy="31244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827080" y="4736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827080" y="41144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827080" y="35049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827080" y="28954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27080" y="22856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512880" y="4736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512880" y="41144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512880" y="35049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512880" y="28954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12880" y="22856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186080" y="4736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186080" y="41144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186080" y="35049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186080" y="28954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186080" y="22856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884480" y="4736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884480" y="41144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884480" y="35049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884480" y="28954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884480" y="22856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1" name=""/>
          <p:cNvGrpSpPr/>
          <p:nvPr/>
        </p:nvGrpSpPr>
        <p:grpSpPr>
          <a:xfrm>
            <a:off x="1371600" y="1523880"/>
            <a:ext cx="6477120" cy="3886200"/>
            <a:chOff x="1371600" y="1523880"/>
            <a:chExt cx="6477120" cy="3886200"/>
          </a:xfrm>
        </p:grpSpPr>
        <p:grpSp>
          <p:nvGrpSpPr>
            <p:cNvPr id="602" name=""/>
            <p:cNvGrpSpPr/>
            <p:nvPr/>
          </p:nvGrpSpPr>
          <p:grpSpPr>
            <a:xfrm>
              <a:off x="2832120" y="1523880"/>
              <a:ext cx="3339720" cy="3886200"/>
              <a:chOff x="2832120" y="1523880"/>
              <a:chExt cx="3339720" cy="388620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2832120" y="1523880"/>
                <a:ext cx="3339720" cy="3886200"/>
                <a:chOff x="2832120" y="1523880"/>
                <a:chExt cx="3339720" cy="388620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3441600" y="1523880"/>
                  <a:ext cx="2730240" cy="3124080"/>
                  <a:chOff x="3441600" y="1523880"/>
                  <a:chExt cx="2730240" cy="312408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3441600" y="397512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3441600" y="33526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3441600" y="27432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441600" y="21333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441600" y="15238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127400" y="397512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4127400" y="33526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127400" y="27432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127400" y="21333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4127400" y="15238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800240" y="3975120"/>
                    <a:ext cx="67320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800240" y="335268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800240" y="2743200"/>
                    <a:ext cx="67320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4800240" y="213336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800240" y="152388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499000" y="397512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5499000" y="33526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5499000" y="27432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499000" y="21333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5499000" y="15238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3136680" y="1904760"/>
                  <a:ext cx="2730240" cy="3124080"/>
                  <a:chOff x="3136680" y="1904760"/>
                  <a:chExt cx="2730240" cy="312408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136680" y="435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136680" y="37335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136680" y="312408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136680" y="251424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136680" y="19047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3822480" y="435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3822480" y="37335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822480" y="312408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822480" y="251424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822480" y="19047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495320" y="4356000"/>
                    <a:ext cx="67320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495320" y="373356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495320" y="3124080"/>
                    <a:ext cx="67320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495320" y="251424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495320" y="190476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194080" y="435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194080" y="37335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194080" y="312408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5194080" y="251424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5194080" y="19047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2832120" y="2286000"/>
                  <a:ext cx="2730240" cy="3124080"/>
                  <a:chOff x="2832120" y="2286000"/>
                  <a:chExt cx="2730240" cy="312408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2832120" y="47368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832120" y="41148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832120" y="35049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832120" y="28954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832120" y="228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517920" y="47368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517920" y="41148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517920" y="35049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517920" y="28954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3517920" y="228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90760" y="473688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90760" y="4114800"/>
                    <a:ext cx="67320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190760" y="350496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190760" y="2895480"/>
                    <a:ext cx="67320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190760" y="2286000"/>
                    <a:ext cx="67320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889520" y="47368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889520" y="41148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889520" y="350496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889520" y="2895480"/>
                    <a:ext cx="672840" cy="67320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889520" y="2286000"/>
                    <a:ext cx="672840" cy="672840"/>
                  </a:xfrm>
                  <a:prstGeom prst="cube">
                    <a:avLst>
                      <a:gd name="adj" fmla="val 24995"/>
                    </a:avLst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7" name=""/>
              <p:cNvSpPr/>
              <p:nvPr/>
            </p:nvSpPr>
            <p:spPr>
              <a:xfrm>
                <a:off x="3737160" y="3275280"/>
                <a:ext cx="8330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7315200" y="2209680"/>
              <a:ext cx="533520" cy="381240"/>
            </a:xfrm>
            <a:prstGeom prst="leftArrow">
              <a:avLst>
                <a:gd name="adj1" fmla="val 33333"/>
                <a:gd name="adj2" fmla="val 78718"/>
              </a:avLst>
            </a:prstGeom>
            <a:gradFill rotWithShape="0">
              <a:gsLst>
                <a:gs pos="0">
                  <a:srgbClr val="e275c7"/>
                </a:gs>
                <a:gs pos="100000">
                  <a:srgbClr val="cc00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0800000">
              <a:off x="1371600" y="2057400"/>
              <a:ext cx="533520" cy="380880"/>
            </a:xfrm>
            <a:prstGeom prst="leftArrow">
              <a:avLst>
                <a:gd name="adj1" fmla="val 33333"/>
                <a:gd name="adj2" fmla="val 78792"/>
              </a:avLst>
            </a:prstGeom>
            <a:gradFill rotWithShape="0">
              <a:gsLst>
                <a:gs pos="0">
                  <a:srgbClr val="e275c7"/>
                </a:gs>
                <a:gs pos="100000">
                  <a:srgbClr val="cc00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Komponenten eines Cubes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743200" y="5105520"/>
            <a:ext cx="2971800" cy="1143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3500000"/>
          </a:gradFill>
          <a:ln w="3240">
            <a:solidFill>
              <a:srgbClr val="0066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5791320"/>
            <a:ext cx="8337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2514600" cy="3353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3500000"/>
          </a:gradFill>
          <a:ln w="3240">
            <a:solidFill>
              <a:srgbClr val="0066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39960" y="1371600"/>
            <a:ext cx="1235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120" y="1066680"/>
            <a:ext cx="312408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3500000"/>
          </a:gradFill>
          <a:ln w="3240">
            <a:solidFill>
              <a:srgbClr val="0066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39880" y="1066680"/>
            <a:ext cx="1345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480" y="2590920"/>
            <a:ext cx="17528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m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33520" y="5967360"/>
            <a:ext cx="941400" cy="357120"/>
            <a:chOff x="533520" y="5967360"/>
            <a:chExt cx="941400" cy="357120"/>
          </a:xfrm>
        </p:grpSpPr>
        <p:grpSp>
          <p:nvGrpSpPr>
            <p:cNvPr id="679" name=""/>
            <p:cNvGrpSpPr/>
            <p:nvPr/>
          </p:nvGrpSpPr>
          <p:grpSpPr>
            <a:xfrm>
              <a:off x="533520" y="5967360"/>
              <a:ext cx="442800" cy="357120"/>
              <a:chOff x="533520" y="5967360"/>
              <a:chExt cx="442800" cy="357120"/>
            </a:xfrm>
          </p:grpSpPr>
          <p:sp>
            <p:nvSpPr>
              <p:cNvPr id="680" name=""/>
              <p:cNvSpPr/>
              <p:nvPr/>
            </p:nvSpPr>
            <p:spPr>
              <a:xfrm>
                <a:off x="533520" y="5967360"/>
                <a:ext cx="44280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8960" y="6049800"/>
                <a:ext cx="331920" cy="192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6880" y="6056280"/>
                <a:ext cx="208440" cy="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629" y="19664"/>
                    </a:moveTo>
                    <a:arcTo wR="10800" hR="10800" stAng="7490636" swAng="8823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629" y="19664"/>
                    </a:moveTo>
                    <a:arcTo wR="10800" hR="10800" stAng="7490636" swAng="8823993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3680" y="6105600"/>
                <a:ext cx="20988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1421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142173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031760" y="5967360"/>
              <a:ext cx="443160" cy="357120"/>
              <a:chOff x="1031760" y="5967360"/>
              <a:chExt cx="443160" cy="357120"/>
            </a:xfrm>
          </p:grpSpPr>
          <p:sp>
            <p:nvSpPr>
              <p:cNvPr id="685" name=""/>
              <p:cNvSpPr/>
              <p:nvPr/>
            </p:nvSpPr>
            <p:spPr>
              <a:xfrm>
                <a:off x="1031760" y="5967360"/>
                <a:ext cx="44316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87560" y="6049800"/>
                <a:ext cx="331560" cy="192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3000" y="6105600"/>
                <a:ext cx="20844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49" y="19878"/>
                    </a:moveTo>
                    <a:arcTo wR="10800" hR="10800" stAng="7368319" swAng="89463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49" y="19878"/>
                    </a:moveTo>
                    <a:arcTo wR="10800" hR="10800" stAng="7368319" swAng="8946310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143000" y="6105600"/>
                <a:ext cx="20916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5139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513965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874800" y="6049800"/>
              <a:ext cx="257040" cy="209880"/>
            </a:xfrm>
            <a:prstGeom prst="rightArrow">
              <a:avLst>
                <a:gd name="adj1" fmla="val 54546"/>
                <a:gd name="adj2" fmla="val 90718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32120" y="1523880"/>
            <a:ext cx="3339720" cy="3886200"/>
            <a:chOff x="2832120" y="1523880"/>
            <a:chExt cx="3339720" cy="3886200"/>
          </a:xfrm>
        </p:grpSpPr>
        <p:grpSp>
          <p:nvGrpSpPr>
            <p:cNvPr id="691" name=""/>
            <p:cNvGrpSpPr/>
            <p:nvPr/>
          </p:nvGrpSpPr>
          <p:grpSpPr>
            <a:xfrm>
              <a:off x="3441600" y="1523880"/>
              <a:ext cx="2730240" cy="3124080"/>
              <a:chOff x="3441600" y="1523880"/>
              <a:chExt cx="2730240" cy="3124080"/>
            </a:xfrm>
          </p:grpSpPr>
          <p:sp>
            <p:nvSpPr>
              <p:cNvPr id="692" name=""/>
              <p:cNvSpPr/>
              <p:nvPr/>
            </p:nvSpPr>
            <p:spPr>
              <a:xfrm>
                <a:off x="3441600" y="39751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441600" y="33526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441600" y="274320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441600" y="213336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41600" y="15238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127400" y="39751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127400" y="33526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127400" y="274320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127400" y="213336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127400" y="15238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800240" y="397512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00240" y="33526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800240" y="274320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00240" y="213336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00240" y="15238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99000" y="397512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99000" y="33526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499000" y="274320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499000" y="213336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499000" y="15238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3137040" y="1905120"/>
              <a:ext cx="2730240" cy="3124080"/>
              <a:chOff x="3137040" y="1905120"/>
              <a:chExt cx="2730240" cy="3124080"/>
            </a:xfrm>
          </p:grpSpPr>
          <p:sp>
            <p:nvSpPr>
              <p:cNvPr id="713" name=""/>
              <p:cNvSpPr/>
              <p:nvPr/>
            </p:nvSpPr>
            <p:spPr>
              <a:xfrm>
                <a:off x="3137040" y="435636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137040" y="373392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137040" y="312444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137040" y="25146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137040" y="190512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822840" y="435636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822840" y="373392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822840" y="312444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25146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822840" y="190512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495680" y="435636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495680" y="373392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495680" y="312444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495680" y="251460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495680" y="190512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94440" y="435636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194440" y="373392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194440" y="312444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194440" y="251460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194440" y="190512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2832120" y="2286000"/>
              <a:ext cx="2730240" cy="3124080"/>
              <a:chOff x="2832120" y="2286000"/>
              <a:chExt cx="2730240" cy="3124080"/>
            </a:xfrm>
          </p:grpSpPr>
          <p:sp>
            <p:nvSpPr>
              <p:cNvPr id="734" name=""/>
              <p:cNvSpPr/>
              <p:nvPr/>
            </p:nvSpPr>
            <p:spPr>
              <a:xfrm>
                <a:off x="2832120" y="47368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832120" y="411480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832120" y="350496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8321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832120" y="228600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17920" y="47368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517920" y="411480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17920" y="350496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179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517920" y="228600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190760" y="47368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190760" y="411480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190760" y="350496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190760" y="2895480"/>
                <a:ext cx="67320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190760" y="2286000"/>
                <a:ext cx="67320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889520" y="47368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889520" y="411480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889520" y="350496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889520" y="2895480"/>
                <a:ext cx="672840" cy="67320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889520" y="2286000"/>
                <a:ext cx="672840" cy="672840"/>
              </a:xfrm>
              <a:prstGeom prst="cube">
                <a:avLst>
                  <a:gd name="adj" fmla="val 24995"/>
                </a:avLst>
              </a:prstGeom>
              <a:solidFill>
                <a:srgbClr val="66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533520" y="1295280"/>
            <a:ext cx="6870600" cy="4545720"/>
            <a:chOff x="533520" y="1295280"/>
            <a:chExt cx="6870600" cy="4545720"/>
          </a:xfrm>
        </p:grpSpPr>
        <p:grpSp>
          <p:nvGrpSpPr>
            <p:cNvPr id="755" name=""/>
            <p:cNvGrpSpPr/>
            <p:nvPr/>
          </p:nvGrpSpPr>
          <p:grpSpPr>
            <a:xfrm>
              <a:off x="1942560" y="1295280"/>
              <a:ext cx="5461560" cy="4545720"/>
              <a:chOff x="1942560" y="1295280"/>
              <a:chExt cx="5461560" cy="4545720"/>
            </a:xfrm>
          </p:grpSpPr>
          <p:sp>
            <p:nvSpPr>
              <p:cNvPr id="756" name=""/>
              <p:cNvSpPr/>
              <p:nvPr/>
            </p:nvSpPr>
            <p:spPr>
              <a:xfrm>
                <a:off x="4877280" y="5386320"/>
                <a:ext cx="515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28560"/>
                    <a:tab algn="l" pos="1314360"/>
                    <a:tab algn="l" pos="200016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Q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897640" y="5380200"/>
                <a:ext cx="51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Q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583440" y="5380200"/>
                <a:ext cx="51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Q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193280" y="5380200"/>
                <a:ext cx="51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Q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153480" y="1523880"/>
                <a:ext cx="1166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Traub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153120" y="3352680"/>
                <a:ext cx="806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Äpf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153480" y="2743200"/>
                <a:ext cx="1194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Mel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54200" y="2133720"/>
                <a:ext cx="12499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Kirsch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153480" y="3962520"/>
                <a:ext cx="1237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Pfirsic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514600" y="1295280"/>
                <a:ext cx="10288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Atlan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49280" y="1676520"/>
                <a:ext cx="1027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Den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942560" y="2057400"/>
                <a:ext cx="9874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Detro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533520" y="1676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0800000">
              <a:off x="1676160" y="1676520"/>
              <a:ext cx="533160" cy="380880"/>
            </a:xfrm>
            <a:prstGeom prst="leftArrow">
              <a:avLst>
                <a:gd name="adj1" fmla="val 33333"/>
                <a:gd name="adj2" fmla="val 78739"/>
              </a:avLst>
            </a:prstGeom>
            <a:gradFill rotWithShape="0">
              <a:gsLst>
                <a:gs pos="0">
                  <a:srgbClr val="e275c7"/>
                </a:gs>
                <a:gs pos="100000">
                  <a:srgbClr val="cc00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832120" y="1523880"/>
            <a:ext cx="3340080" cy="3886200"/>
            <a:chOff x="2832120" y="1523880"/>
            <a:chExt cx="3340080" cy="3886200"/>
          </a:xfrm>
        </p:grpSpPr>
        <p:grpSp>
          <p:nvGrpSpPr>
            <p:cNvPr id="771" name=""/>
            <p:cNvGrpSpPr/>
            <p:nvPr/>
          </p:nvGrpSpPr>
          <p:grpSpPr>
            <a:xfrm>
              <a:off x="2832120" y="1523880"/>
              <a:ext cx="3340080" cy="3886200"/>
              <a:chOff x="2832120" y="1523880"/>
              <a:chExt cx="3340080" cy="388620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3441960" y="1523880"/>
                <a:ext cx="2730240" cy="3124080"/>
                <a:chOff x="3441960" y="1523880"/>
                <a:chExt cx="2730240" cy="312408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3441960" y="397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441960" y="33526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441960" y="27428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441960" y="21333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441960" y="15238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127760" y="397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127760" y="33526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127760" y="27428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127760" y="21333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127760" y="15238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800600" y="39747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800600" y="33526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4800600" y="27428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800600" y="21333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800600" y="15238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499360" y="397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499360" y="33526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99360" y="27428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99360" y="21333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99360" y="15238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3137040" y="1904760"/>
                <a:ext cx="2730600" cy="3124080"/>
                <a:chOff x="3137040" y="1904760"/>
                <a:chExt cx="2730600" cy="312408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137040" y="43560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137040" y="37335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137040" y="31240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137040" y="25142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137040" y="19047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822840" y="43560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822840" y="37335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822840" y="31240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822840" y="25142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822840" y="19047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496040" y="435600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496040" y="37335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496040" y="3124080"/>
                  <a:ext cx="67284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496040" y="251424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496040" y="1904760"/>
                  <a:ext cx="67284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194440" y="435600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94440" y="37335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194440" y="31240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194440" y="25142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194440" y="19047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2832120" y="2285640"/>
                <a:ext cx="2730600" cy="3124440"/>
                <a:chOff x="2832120" y="2285640"/>
                <a:chExt cx="2730600" cy="312444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2832120" y="4736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832120" y="41144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832120" y="35049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2832120" y="28954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832120" y="22856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517920" y="4736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517920" y="41144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17920" y="35049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517920" y="28954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517920" y="22856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191120" y="4736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191120" y="41144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191120" y="35049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4191120" y="28954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191120" y="22856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889520" y="473688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889520" y="41144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4889520" y="350496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889520" y="2895480"/>
                  <a:ext cx="673200" cy="672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889520" y="2285640"/>
                  <a:ext cx="673200" cy="67320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6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5" name=""/>
            <p:cNvGrpSpPr/>
            <p:nvPr/>
          </p:nvGrpSpPr>
          <p:grpSpPr>
            <a:xfrm>
              <a:off x="3276720" y="3048120"/>
              <a:ext cx="1447200" cy="380880"/>
              <a:chOff x="3276720" y="3048120"/>
              <a:chExt cx="1447200" cy="380880"/>
            </a:xfrm>
          </p:grpSpPr>
          <p:sp>
            <p:nvSpPr>
              <p:cNvPr id="836" name=""/>
              <p:cNvSpPr/>
              <p:nvPr/>
            </p:nvSpPr>
            <p:spPr>
              <a:xfrm>
                <a:off x="3276720" y="30481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0c0c0"/>
                </a:solidFill>
                <a:miter/>
              </a:ln>
              <a:effectLst>
                <a:outerShdw dist="107932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Zel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0800000">
                <a:off x="4190760" y="3048120"/>
                <a:ext cx="533160" cy="380880"/>
              </a:xfrm>
              <a:prstGeom prst="leftArrow">
                <a:avLst>
                  <a:gd name="adj1" fmla="val 33333"/>
                  <a:gd name="adj2" fmla="val 78739"/>
                </a:avLst>
              </a:prstGeom>
              <a:gradFill rotWithShape="0">
                <a:gsLst>
                  <a:gs pos="0">
                    <a:srgbClr val="e275c7"/>
                  </a:gs>
                  <a:gs pos="100000">
                    <a:srgbClr val="cc0099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5105520" y="5257800"/>
            <a:ext cx="3352680" cy="1143000"/>
            <a:chOff x="5105520" y="5257800"/>
            <a:chExt cx="3352680" cy="1143000"/>
          </a:xfrm>
        </p:grpSpPr>
        <p:grpSp>
          <p:nvGrpSpPr>
            <p:cNvPr id="839" name=""/>
            <p:cNvGrpSpPr/>
            <p:nvPr/>
          </p:nvGrpSpPr>
          <p:grpSpPr>
            <a:xfrm>
              <a:off x="5638680" y="5257800"/>
              <a:ext cx="2819520" cy="1143000"/>
              <a:chOff x="5638680" y="5257800"/>
              <a:chExt cx="2819520" cy="1143000"/>
            </a:xfrm>
          </p:grpSpPr>
          <p:sp>
            <p:nvSpPr>
              <p:cNvPr id="840" name=""/>
              <p:cNvSpPr/>
              <p:nvPr/>
            </p:nvSpPr>
            <p:spPr>
              <a:xfrm>
                <a:off x="5638680" y="52578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Zei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477120" y="525780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Sta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38680" y="5486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Quartal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7120" y="548640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1. Jul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315200" y="5257800"/>
                <a:ext cx="11430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En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315200" y="5486400"/>
                <a:ext cx="11430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30. Septemb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638680" y="5715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Quartal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77120" y="571500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1. Oktob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315200" y="5715000"/>
                <a:ext cx="11430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31. Dezemb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38680" y="5943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Quartal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477120" y="594360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1. Janu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15200" y="5943600"/>
                <a:ext cx="11430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31. Mär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638680" y="6172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Quartal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77120" y="617220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1. Apr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315200" y="6172200"/>
                <a:ext cx="11430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30. Jun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5105520" y="5867280"/>
              <a:ext cx="1447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igenschaf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1162080" y="4800600"/>
            <a:ext cx="1865160" cy="1442160"/>
            <a:chOff x="1162080" y="4800600"/>
            <a:chExt cx="1865160" cy="1442160"/>
          </a:xfrm>
        </p:grpSpPr>
        <p:grpSp>
          <p:nvGrpSpPr>
            <p:cNvPr id="857" name=""/>
            <p:cNvGrpSpPr/>
            <p:nvPr/>
          </p:nvGrpSpPr>
          <p:grpSpPr>
            <a:xfrm>
              <a:off x="1162080" y="4800600"/>
              <a:ext cx="1733040" cy="1442160"/>
              <a:chOff x="1162080" y="4800600"/>
              <a:chExt cx="1733040" cy="1442160"/>
            </a:xfrm>
          </p:grpSpPr>
          <p:grpSp>
            <p:nvGrpSpPr>
              <p:cNvPr id="858" name=""/>
              <p:cNvGrpSpPr/>
              <p:nvPr/>
            </p:nvGrpSpPr>
            <p:grpSpPr>
              <a:xfrm>
                <a:off x="1162080" y="4800600"/>
                <a:ext cx="1352160" cy="936000"/>
                <a:chOff x="1162080" y="4800600"/>
                <a:chExt cx="1352160" cy="936000"/>
              </a:xfrm>
            </p:grpSpPr>
            <p:grpSp>
              <p:nvGrpSpPr>
                <p:cNvPr id="859" name=""/>
                <p:cNvGrpSpPr/>
                <p:nvPr/>
              </p:nvGrpSpPr>
              <p:grpSpPr>
                <a:xfrm>
                  <a:off x="1162080" y="4800600"/>
                  <a:ext cx="540720" cy="936000"/>
                  <a:chOff x="1162080" y="4800600"/>
                  <a:chExt cx="540720" cy="93600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162080" y="4800600"/>
                    <a:ext cx="540720" cy="18756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Tag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162080" y="4988160"/>
                    <a:ext cx="54072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162080" y="5174640"/>
                    <a:ext cx="54072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1162080" y="5362560"/>
                    <a:ext cx="54072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162080" y="5549040"/>
                    <a:ext cx="54072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702800" y="4800600"/>
                  <a:ext cx="540720" cy="936000"/>
                  <a:chOff x="1702800" y="4800600"/>
                  <a:chExt cx="540720" cy="93600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702800" y="4800600"/>
                    <a:ext cx="540720" cy="18756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Tag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702800" y="4988160"/>
                    <a:ext cx="54072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1702800" y="5174640"/>
                    <a:ext cx="54072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702800" y="5362560"/>
                    <a:ext cx="54072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702800" y="5549040"/>
                    <a:ext cx="54072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2243880" y="4800600"/>
                  <a:ext cx="270360" cy="936000"/>
                  <a:chOff x="2243880" y="4800600"/>
                  <a:chExt cx="270360" cy="93600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2243880" y="4800600"/>
                    <a:ext cx="270360" cy="18756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..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243880" y="4988160"/>
                    <a:ext cx="27036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243880" y="5174640"/>
                    <a:ext cx="27036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243880" y="5362560"/>
                    <a:ext cx="27036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243880" y="5549040"/>
                    <a:ext cx="27036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7" name=""/>
              <p:cNvGrpSpPr/>
              <p:nvPr/>
            </p:nvGrpSpPr>
            <p:grpSpPr>
              <a:xfrm>
                <a:off x="1343160" y="5056200"/>
                <a:ext cx="1350360" cy="936000"/>
                <a:chOff x="1343160" y="5056200"/>
                <a:chExt cx="1350360" cy="936000"/>
              </a:xfrm>
            </p:grpSpPr>
            <p:grpSp>
              <p:nvGrpSpPr>
                <p:cNvPr id="878" name=""/>
                <p:cNvGrpSpPr/>
                <p:nvPr/>
              </p:nvGrpSpPr>
              <p:grpSpPr>
                <a:xfrm>
                  <a:off x="1343160" y="5056200"/>
                  <a:ext cx="540000" cy="936000"/>
                  <a:chOff x="1343160" y="5056200"/>
                  <a:chExt cx="540000" cy="93600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1343160" y="5056200"/>
                    <a:ext cx="540000" cy="18756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Jan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1343160" y="5243760"/>
                    <a:ext cx="54000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1343160" y="5430240"/>
                    <a:ext cx="54000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343160" y="5618160"/>
                    <a:ext cx="54000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1343160" y="5804640"/>
                    <a:ext cx="54000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4" name=""/>
                <p:cNvGrpSpPr/>
                <p:nvPr/>
              </p:nvGrpSpPr>
              <p:grpSpPr>
                <a:xfrm>
                  <a:off x="1883160" y="5056200"/>
                  <a:ext cx="540000" cy="936000"/>
                  <a:chOff x="1883160" y="5056200"/>
                  <a:chExt cx="540000" cy="9360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1883160" y="5056200"/>
                    <a:ext cx="540000" cy="18756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Feb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1883160" y="5243760"/>
                    <a:ext cx="54000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1883160" y="5430240"/>
                    <a:ext cx="54000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883160" y="5618160"/>
                    <a:ext cx="54000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883160" y="5804640"/>
                    <a:ext cx="54000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2423520" y="5056200"/>
                  <a:ext cx="270000" cy="936000"/>
                  <a:chOff x="2423520" y="5056200"/>
                  <a:chExt cx="270000" cy="9360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2423520" y="5056200"/>
                    <a:ext cx="270000" cy="18756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..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423520" y="5243760"/>
                    <a:ext cx="27000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423520" y="5430240"/>
                    <a:ext cx="27000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423520" y="5618160"/>
                    <a:ext cx="27000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423520" y="5804640"/>
                    <a:ext cx="27000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6" name=""/>
              <p:cNvGrpSpPr/>
              <p:nvPr/>
            </p:nvGrpSpPr>
            <p:grpSpPr>
              <a:xfrm>
                <a:off x="1542960" y="5307120"/>
                <a:ext cx="1352160" cy="935640"/>
                <a:chOff x="1542960" y="5307120"/>
                <a:chExt cx="1352160" cy="935640"/>
              </a:xfrm>
            </p:grpSpPr>
            <p:grpSp>
              <p:nvGrpSpPr>
                <p:cNvPr id="897" name=""/>
                <p:cNvGrpSpPr/>
                <p:nvPr/>
              </p:nvGrpSpPr>
              <p:grpSpPr>
                <a:xfrm>
                  <a:off x="1542960" y="5307120"/>
                  <a:ext cx="540720" cy="935640"/>
                  <a:chOff x="1542960" y="5307120"/>
                  <a:chExt cx="540720" cy="935640"/>
                </a:xfrm>
              </p:grpSpPr>
              <p:sp>
                <p:nvSpPr>
                  <p:cNvPr id="898" name=""/>
                  <p:cNvSpPr/>
                  <p:nvPr/>
                </p:nvSpPr>
                <p:spPr>
                  <a:xfrm>
                    <a:off x="1542960" y="5307120"/>
                    <a:ext cx="540720" cy="18756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199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1542960" y="5494680"/>
                    <a:ext cx="54072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1542960" y="5680800"/>
                    <a:ext cx="54072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42960" y="5869080"/>
                    <a:ext cx="54072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1542960" y="6055200"/>
                    <a:ext cx="54072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3" name=""/>
                <p:cNvGrpSpPr/>
                <p:nvPr/>
              </p:nvGrpSpPr>
              <p:grpSpPr>
                <a:xfrm>
                  <a:off x="2083680" y="5307120"/>
                  <a:ext cx="540720" cy="935640"/>
                  <a:chOff x="2083680" y="5307120"/>
                  <a:chExt cx="540720" cy="935640"/>
                </a:xfrm>
              </p:grpSpPr>
              <p:sp>
                <p:nvSpPr>
                  <p:cNvPr id="904" name=""/>
                  <p:cNvSpPr/>
                  <p:nvPr/>
                </p:nvSpPr>
                <p:spPr>
                  <a:xfrm>
                    <a:off x="2083680" y="5307120"/>
                    <a:ext cx="540720" cy="18756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199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083680" y="5494680"/>
                    <a:ext cx="54072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083680" y="5680800"/>
                    <a:ext cx="54072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2083680" y="5869080"/>
                    <a:ext cx="54072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2083680" y="6055200"/>
                    <a:ext cx="54072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2624760" y="5307120"/>
                  <a:ext cx="270360" cy="935640"/>
                  <a:chOff x="2624760" y="5307120"/>
                  <a:chExt cx="270360" cy="9356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2624760" y="5307120"/>
                    <a:ext cx="270360" cy="18756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..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624760" y="5494680"/>
                    <a:ext cx="27036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624760" y="5680800"/>
                    <a:ext cx="27036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624760" y="5869080"/>
                    <a:ext cx="270360" cy="18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624760" y="6055200"/>
                    <a:ext cx="270360" cy="18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15" name=""/>
            <p:cNvSpPr/>
            <p:nvPr/>
          </p:nvSpPr>
          <p:spPr>
            <a:xfrm>
              <a:off x="1905120" y="5715000"/>
              <a:ext cx="11221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c0c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ben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2168b7"/>
                </a:solidFill>
                <a:latin typeface="Arial"/>
              </a:rPr>
              <a:t>Angeben</a:t>
            </a: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 einer Faktentabelle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wählen von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eren geeigneter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ve Sp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ht additive Sp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stlegen der Detaileb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Verwalten von Aggregation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050840" y="121932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meiden des Aggregierens aller möglichen Datenkombin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ägen Sie die Speicheranforderungen gegenüber der Abfrageleistung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nden des Speicherentwurfs-Assisten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et die Regel „80-20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uern der Zahl der Aggreg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en Sie eine Speicherplatzbegrenzung f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gen Sie ein Limit für den Leistungsgewinn f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spiel für eine Datene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Speichern von Cubes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66680" y="1752480"/>
            <a:ext cx="719460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ichern in einer MOLAP-Stru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6000"/>
              </a:lnSpc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ichern in einer ROLAP-Stru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6000"/>
              </a:lnSpc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ichern in einer HOLAP-Stru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gleichen der Speicherstrukt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Speichern in einer MOLAP-Struktur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990720" y="1143000"/>
            <a:ext cx="3124080" cy="4952880"/>
            <a:chOff x="990720" y="1143000"/>
            <a:chExt cx="3124080" cy="4952880"/>
          </a:xfrm>
        </p:grpSpPr>
        <p:sp>
          <p:nvSpPr>
            <p:cNvPr id="924" name=""/>
            <p:cNvSpPr/>
            <p:nvPr/>
          </p:nvSpPr>
          <p:spPr>
            <a:xfrm>
              <a:off x="990720" y="1143000"/>
              <a:ext cx="3124080" cy="49528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ccff"/>
                </a:gs>
              </a:gsLst>
              <a:lin ang="13500000"/>
            </a:gradFill>
            <a:ln w="3240">
              <a:solidFill>
                <a:srgbClr val="0066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warehouse od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454040" y="3200400"/>
              <a:ext cx="2203560" cy="2133720"/>
              <a:chOff x="1454040" y="3200400"/>
              <a:chExt cx="2203560" cy="2133720"/>
            </a:xfrm>
          </p:grpSpPr>
          <p:sp>
            <p:nvSpPr>
              <p:cNvPr id="926" name=""/>
              <p:cNvSpPr/>
              <p:nvPr/>
            </p:nvSpPr>
            <p:spPr>
              <a:xfrm>
                <a:off x="1454040" y="3200400"/>
                <a:ext cx="2203560" cy="2133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99cc"/>
                  </a:gs>
                  <a:gs pos="50000">
                    <a:srgbClr val="8fd1e7"/>
                  </a:gs>
                  <a:gs pos="100000">
                    <a:srgbClr val="0099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7" name=""/>
              <p:cNvGrpSpPr/>
              <p:nvPr/>
            </p:nvGrpSpPr>
            <p:grpSpPr>
              <a:xfrm>
                <a:off x="1599840" y="3809880"/>
                <a:ext cx="1828440" cy="1308960"/>
                <a:chOff x="1599840" y="3809880"/>
                <a:chExt cx="1828440" cy="1308960"/>
              </a:xfrm>
            </p:grpSpPr>
            <p:grpSp>
              <p:nvGrpSpPr>
                <p:cNvPr id="928" name=""/>
                <p:cNvGrpSpPr/>
                <p:nvPr/>
              </p:nvGrpSpPr>
              <p:grpSpPr>
                <a:xfrm>
                  <a:off x="1599840" y="3809880"/>
                  <a:ext cx="1828440" cy="1308960"/>
                  <a:chOff x="1599840" y="3809880"/>
                  <a:chExt cx="1828440" cy="13089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 flipH="1">
                    <a:off x="1917720" y="4036680"/>
                    <a:ext cx="1191960" cy="866160"/>
                  </a:xfrm>
                  <a:prstGeom prst="star5">
                    <a:avLst/>
                  </a:prstGeom>
                  <a:gradFill rotWithShape="0">
                    <a:gsLst>
                      <a:gs pos="0">
                        <a:srgbClr val="ffffcc"/>
                      </a:gs>
                      <a:gs pos="50000">
                        <a:srgbClr val="ffcc66"/>
                      </a:gs>
                      <a:gs pos="100000">
                        <a:srgbClr val="ffffcc"/>
                      </a:gs>
                    </a:gsLst>
                    <a:lin ang="8100000"/>
                  </a:gradFill>
                  <a:ln w="3240">
                    <a:solidFill>
                      <a:srgbClr val="ff9933"/>
                    </a:solidFill>
                    <a:miter/>
                  </a:ln>
                  <a:effectLst>
                    <a:outerShdw dist="107932" dir="2700000" blurRad="0" rotWithShape="0">
                      <a:srgbClr val="b2b2b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0" name=""/>
                  <p:cNvGrpSpPr/>
                  <p:nvPr/>
                </p:nvGrpSpPr>
                <p:grpSpPr>
                  <a:xfrm>
                    <a:off x="2338200" y="4378320"/>
                    <a:ext cx="357480" cy="307440"/>
                    <a:chOff x="2338200" y="4378320"/>
                    <a:chExt cx="357480" cy="307440"/>
                  </a:xfrm>
                </p:grpSpPr>
                <p:sp>
                  <p:nvSpPr>
                    <p:cNvPr id="931" name=""/>
                    <p:cNvSpPr/>
                    <p:nvPr/>
                  </p:nvSpPr>
                  <p:spPr>
                    <a:xfrm flipH="1">
                      <a:off x="2337840" y="4378320"/>
                      <a:ext cx="357480" cy="61920"/>
                    </a:xfrm>
                    <a:prstGeom prst="rect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 flipH="1">
                      <a:off x="2337840" y="4440240"/>
                      <a:ext cx="35748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 flipH="1">
                      <a:off x="2337840" y="4501080"/>
                      <a:ext cx="357480" cy="6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 flipH="1">
                      <a:off x="2337840" y="4563360"/>
                      <a:ext cx="35748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 flipH="1">
                      <a:off x="2337840" y="4624200"/>
                      <a:ext cx="357480" cy="61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1599840" y="4161600"/>
                    <a:ext cx="357480" cy="307440"/>
                    <a:chOff x="1599840" y="4161600"/>
                    <a:chExt cx="357480" cy="307440"/>
                  </a:xfrm>
                </p:grpSpPr>
                <p:sp>
                  <p:nvSpPr>
                    <p:cNvPr id="937" name=""/>
                    <p:cNvSpPr/>
                    <p:nvPr/>
                  </p:nvSpPr>
                  <p:spPr>
                    <a:xfrm flipH="1">
                      <a:off x="1599480" y="4161600"/>
                      <a:ext cx="357480" cy="61920"/>
                    </a:xfrm>
                    <a:prstGeom prst="rect">
                      <a:avLst/>
                    </a:prstGeom>
                    <a:solidFill>
                      <a:srgbClr val="33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 flipH="1">
                      <a:off x="1599480" y="4223520"/>
                      <a:ext cx="35748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 flipH="1">
                      <a:off x="1599480" y="4284360"/>
                      <a:ext cx="357480" cy="61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flipH="1">
                      <a:off x="1599480" y="4346280"/>
                      <a:ext cx="35748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flipH="1">
                      <a:off x="1599480" y="4407120"/>
                      <a:ext cx="357480" cy="6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2833560" y="4811400"/>
                    <a:ext cx="358920" cy="307440"/>
                    <a:chOff x="2833560" y="4811400"/>
                    <a:chExt cx="358920" cy="30744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 flipH="1">
                      <a:off x="2833200" y="4811400"/>
                      <a:ext cx="358920" cy="61920"/>
                    </a:xfrm>
                    <a:prstGeom prst="rect">
                      <a:avLst/>
                    </a:prstGeom>
                    <a:solidFill>
                      <a:srgbClr val="33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 flipH="1">
                      <a:off x="2833200" y="4873320"/>
                      <a:ext cx="35892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 flipH="1">
                      <a:off x="2833200" y="4934160"/>
                      <a:ext cx="358920" cy="61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flipH="1">
                      <a:off x="2833200" y="4996080"/>
                      <a:ext cx="35892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flipH="1">
                      <a:off x="2833200" y="5056920"/>
                      <a:ext cx="358920" cy="6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2325960" y="3809880"/>
                    <a:ext cx="357480" cy="307440"/>
                    <a:chOff x="2325960" y="3809880"/>
                    <a:chExt cx="357480" cy="30744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flipH="1">
                      <a:off x="2325600" y="3809880"/>
                      <a:ext cx="357480" cy="61920"/>
                    </a:xfrm>
                    <a:prstGeom prst="rect">
                      <a:avLst/>
                    </a:prstGeom>
                    <a:solidFill>
                      <a:srgbClr val="33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flipH="1">
                      <a:off x="2325600" y="3871800"/>
                      <a:ext cx="35748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 flipH="1">
                      <a:off x="2325600" y="3932640"/>
                      <a:ext cx="357480" cy="61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H="1">
                      <a:off x="2325600" y="3994560"/>
                      <a:ext cx="35748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flipH="1">
                      <a:off x="2325600" y="4055400"/>
                      <a:ext cx="357480" cy="6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3070800" y="4161600"/>
                    <a:ext cx="357480" cy="307440"/>
                    <a:chOff x="3070800" y="4161600"/>
                    <a:chExt cx="357480" cy="3074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flipH="1">
                      <a:off x="3070440" y="4161600"/>
                      <a:ext cx="357480" cy="61920"/>
                    </a:xfrm>
                    <a:prstGeom prst="rect">
                      <a:avLst/>
                    </a:prstGeom>
                    <a:solidFill>
                      <a:srgbClr val="33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flipH="1">
                      <a:off x="3070440" y="4223520"/>
                      <a:ext cx="35748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 flipH="1">
                      <a:off x="3070440" y="4284360"/>
                      <a:ext cx="357480" cy="6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H="1">
                      <a:off x="3070440" y="4346640"/>
                      <a:ext cx="357480" cy="6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flipH="1">
                      <a:off x="3070440" y="4407480"/>
                      <a:ext cx="357480" cy="61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c0c0c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60" name=""/>
                <p:cNvGrpSpPr/>
                <p:nvPr/>
              </p:nvGrpSpPr>
              <p:grpSpPr>
                <a:xfrm>
                  <a:off x="1895040" y="4811400"/>
                  <a:ext cx="357480" cy="307440"/>
                  <a:chOff x="1895040" y="4811400"/>
                  <a:chExt cx="357480" cy="30744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>
                    <a:off x="1895040" y="4811400"/>
                    <a:ext cx="357480" cy="6192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1895040" y="487332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1895040" y="4934160"/>
                    <a:ext cx="357480" cy="61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1895040" y="499644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1895040" y="5057280"/>
                    <a:ext cx="357480" cy="61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66" name=""/>
              <p:cNvSpPr/>
              <p:nvPr/>
            </p:nvSpPr>
            <p:spPr>
              <a:xfrm>
                <a:off x="1905120" y="3275640"/>
                <a:ext cx="13190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SQL 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7" name=""/>
          <p:cNvSpPr/>
          <p:nvPr/>
        </p:nvSpPr>
        <p:spPr>
          <a:xfrm>
            <a:off x="4343400" y="1143000"/>
            <a:ext cx="3733920" cy="4952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13500000"/>
          </a:gradFill>
          <a:ln w="3240">
            <a:solidFill>
              <a:srgbClr val="0066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be-Daten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105520" y="3505320"/>
            <a:ext cx="1752480" cy="1600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f9100"/>
              </a:gs>
              <a:gs pos="100000">
                <a:srgbClr val="f5c375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MOLAP-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MOLAP-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Aggrega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724280" y="153936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ine Kopie der Faktentabelle und die Dimensionen sind in einem Cube gespeich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31840" y="2453760"/>
            <a:ext cx="33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e Aggregationen werden in ein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ube gespeich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4494960" y="163368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c20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494960" y="256536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c20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657600" y="4114800"/>
            <a:ext cx="1523880" cy="609480"/>
          </a:xfrm>
          <a:prstGeom prst="rightArrow">
            <a:avLst>
              <a:gd name="adj1" fmla="val 50000"/>
              <a:gd name="adj2" fmla="val 99769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Speichern in einer ROLAP-Struktur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33520" y="1219320"/>
            <a:ext cx="8001000" cy="4724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13500000"/>
          </a:gradFill>
          <a:ln w="3240">
            <a:solidFill>
              <a:srgbClr val="0066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warehouse oder Datam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14600" y="1981080"/>
            <a:ext cx="2590920" cy="1981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cfeb9"/>
              </a:gs>
            </a:gsLst>
            <a:lin ang="13500000"/>
          </a:gradFill>
          <a:ln w="9360">
            <a:solidFill>
              <a:srgbClr val="ff9933"/>
            </a:solidFill>
            <a:miter/>
          </a:ln>
          <a:effectLst>
            <a:outerShdw dist="89604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2666880" y="2209680"/>
            <a:ext cx="2286000" cy="1524240"/>
            <a:chOff x="2666880" y="2209680"/>
            <a:chExt cx="2286000" cy="1524240"/>
          </a:xfrm>
        </p:grpSpPr>
        <p:grpSp>
          <p:nvGrpSpPr>
            <p:cNvPr id="978" name=""/>
            <p:cNvGrpSpPr/>
            <p:nvPr/>
          </p:nvGrpSpPr>
          <p:grpSpPr>
            <a:xfrm>
              <a:off x="2666880" y="2209680"/>
              <a:ext cx="2057400" cy="914400"/>
              <a:chOff x="2666880" y="2209680"/>
              <a:chExt cx="2057400" cy="914400"/>
            </a:xfrm>
          </p:grpSpPr>
          <p:sp>
            <p:nvSpPr>
              <p:cNvPr id="979" name=""/>
              <p:cNvSpPr/>
              <p:nvPr/>
            </p:nvSpPr>
            <p:spPr>
              <a:xfrm>
                <a:off x="2666880" y="2209680"/>
                <a:ext cx="2057400" cy="3049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ROLAP-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666880" y="2514600"/>
                <a:ext cx="4572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124080" y="2514600"/>
                <a:ext cx="83844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962520" y="2514600"/>
                <a:ext cx="76176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2895480" y="2819520"/>
              <a:ext cx="2057400" cy="914400"/>
              <a:chOff x="2895480" y="2819520"/>
              <a:chExt cx="2057400" cy="914400"/>
            </a:xfrm>
          </p:grpSpPr>
          <p:sp>
            <p:nvSpPr>
              <p:cNvPr id="984" name=""/>
              <p:cNvSpPr/>
              <p:nvPr/>
            </p:nvSpPr>
            <p:spPr>
              <a:xfrm>
                <a:off x="2895480" y="2819520"/>
                <a:ext cx="2057400" cy="3049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ROLAP-Aggregation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895480" y="3124440"/>
                <a:ext cx="4572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352680" y="3124440"/>
                <a:ext cx="83844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191120" y="3124440"/>
                <a:ext cx="76176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8" name=""/>
          <p:cNvGrpSpPr/>
          <p:nvPr/>
        </p:nvGrpSpPr>
        <p:grpSpPr>
          <a:xfrm>
            <a:off x="692280" y="3124080"/>
            <a:ext cx="2203200" cy="2133720"/>
            <a:chOff x="692280" y="3124080"/>
            <a:chExt cx="2203200" cy="2133720"/>
          </a:xfrm>
        </p:grpSpPr>
        <p:sp>
          <p:nvSpPr>
            <p:cNvPr id="989" name=""/>
            <p:cNvSpPr/>
            <p:nvPr/>
          </p:nvSpPr>
          <p:spPr>
            <a:xfrm>
              <a:off x="692280" y="3124080"/>
              <a:ext cx="2203200" cy="2133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8fd1e7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879120" y="3733560"/>
              <a:ext cx="1828440" cy="1308960"/>
              <a:chOff x="879120" y="3733560"/>
              <a:chExt cx="1828440" cy="130896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879120" y="3733560"/>
                <a:ext cx="1828440" cy="1308960"/>
                <a:chOff x="879120" y="3733560"/>
                <a:chExt cx="1828440" cy="1308960"/>
              </a:xfrm>
            </p:grpSpPr>
            <p:sp>
              <p:nvSpPr>
                <p:cNvPr id="992" name=""/>
                <p:cNvSpPr/>
                <p:nvPr/>
              </p:nvSpPr>
              <p:spPr>
                <a:xfrm flipH="1">
                  <a:off x="1197000" y="3960360"/>
                  <a:ext cx="1191960" cy="866160"/>
                </a:xfrm>
                <a:prstGeom prst="star5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ffcc66"/>
                    </a:gs>
                    <a:gs pos="100000">
                      <a:srgbClr val="ffffcc"/>
                    </a:gs>
                  </a:gsLst>
                  <a:lin ang="8100000"/>
                </a:gradFill>
                <a:ln w="3240">
                  <a:solidFill>
                    <a:srgbClr val="ff9933"/>
                  </a:solidFill>
                  <a:miter/>
                </a:ln>
                <a:effectLst>
                  <a:outerShdw dist="107932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3" name=""/>
                <p:cNvGrpSpPr/>
                <p:nvPr/>
              </p:nvGrpSpPr>
              <p:grpSpPr>
                <a:xfrm>
                  <a:off x="1617480" y="4302000"/>
                  <a:ext cx="357480" cy="307440"/>
                  <a:chOff x="1617480" y="4302000"/>
                  <a:chExt cx="357480" cy="3074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 flipH="1">
                    <a:off x="1617120" y="4302000"/>
                    <a:ext cx="357480" cy="6192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flipH="1">
                    <a:off x="1617120" y="436392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>
                    <a:off x="1617120" y="4424760"/>
                    <a:ext cx="357480" cy="61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flipH="1">
                    <a:off x="1617120" y="448704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H="1">
                    <a:off x="1617120" y="4547880"/>
                    <a:ext cx="357480" cy="61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9" name=""/>
                <p:cNvGrpSpPr/>
                <p:nvPr/>
              </p:nvGrpSpPr>
              <p:grpSpPr>
                <a:xfrm>
                  <a:off x="879120" y="4085280"/>
                  <a:ext cx="357480" cy="307440"/>
                  <a:chOff x="879120" y="4085280"/>
                  <a:chExt cx="357480" cy="30744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 flipH="1">
                    <a:off x="878760" y="4085280"/>
                    <a:ext cx="357480" cy="6192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H="1">
                    <a:off x="878760" y="414720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>
                    <a:off x="878760" y="4208040"/>
                    <a:ext cx="357480" cy="61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H="1">
                    <a:off x="878760" y="426996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 flipH="1">
                    <a:off x="878760" y="4330800"/>
                    <a:ext cx="357480" cy="61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5" name=""/>
                <p:cNvGrpSpPr/>
                <p:nvPr/>
              </p:nvGrpSpPr>
              <p:grpSpPr>
                <a:xfrm>
                  <a:off x="2112840" y="4735080"/>
                  <a:ext cx="358920" cy="307440"/>
                  <a:chOff x="2112840" y="4735080"/>
                  <a:chExt cx="358920" cy="30744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 flipH="1">
                    <a:off x="2112480" y="4735080"/>
                    <a:ext cx="358920" cy="6192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H="1">
                    <a:off x="2112480" y="4797000"/>
                    <a:ext cx="35892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>
                    <a:off x="2112480" y="4857840"/>
                    <a:ext cx="358920" cy="61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>
                    <a:off x="2112480" y="4919760"/>
                    <a:ext cx="35892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H="1">
                    <a:off x="2112480" y="4980600"/>
                    <a:ext cx="358920" cy="61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1605240" y="3733560"/>
                  <a:ext cx="357480" cy="307440"/>
                  <a:chOff x="1605240" y="3733560"/>
                  <a:chExt cx="357480" cy="30744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 flipH="1">
                    <a:off x="1604880" y="3733560"/>
                    <a:ext cx="357480" cy="6192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flipH="1">
                    <a:off x="1604880" y="379548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>
                    <a:off x="1604880" y="3856320"/>
                    <a:ext cx="357480" cy="61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H="1">
                    <a:off x="1604880" y="391824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flipH="1">
                    <a:off x="1604880" y="3979080"/>
                    <a:ext cx="357480" cy="61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2350080" y="4085280"/>
                  <a:ext cx="357480" cy="307440"/>
                  <a:chOff x="2350080" y="4085280"/>
                  <a:chExt cx="357480" cy="30744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 flipH="1">
                    <a:off x="2349720" y="4085280"/>
                    <a:ext cx="357480" cy="6192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flipH="1">
                    <a:off x="2349720" y="414720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H="1">
                    <a:off x="2349720" y="4208040"/>
                    <a:ext cx="357480" cy="61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flipH="1">
                    <a:off x="2349720" y="4270320"/>
                    <a:ext cx="357480" cy="6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 flipH="1">
                    <a:off x="2349720" y="4331160"/>
                    <a:ext cx="357480" cy="61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3" name=""/>
              <p:cNvGrpSpPr/>
              <p:nvPr/>
            </p:nvGrpSpPr>
            <p:grpSpPr>
              <a:xfrm>
                <a:off x="1174320" y="4735080"/>
                <a:ext cx="357480" cy="307440"/>
                <a:chOff x="1174320" y="4735080"/>
                <a:chExt cx="357480" cy="30744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1174320" y="4735080"/>
                  <a:ext cx="357480" cy="61920"/>
                </a:xfrm>
                <a:prstGeom prst="rect">
                  <a:avLst/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174320" y="4797000"/>
                  <a:ext cx="357480" cy="6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174320" y="4857840"/>
                  <a:ext cx="357480" cy="6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174320" y="4920120"/>
                  <a:ext cx="357480" cy="6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174320" y="4980960"/>
                  <a:ext cx="357480" cy="61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9" name=""/>
            <p:cNvSpPr/>
            <p:nvPr/>
          </p:nvSpPr>
          <p:spPr>
            <a:xfrm>
              <a:off x="1135080" y="3199320"/>
              <a:ext cx="13190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SQL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5568480" y="2590200"/>
            <a:ext cx="28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onen sind in relati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len Tabellen gespeich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569920" y="19044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asisdaten werden in 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elldatenbank beibeha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562720" y="3279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LAP Services wird zur Verwaltung von Cube-daten und Aggregationen verwen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5333400" y="200016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c20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5333400" y="268128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c20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5333400" y="337176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c20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Speichern in einer HOLAP-Struktur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09480" y="1295280"/>
            <a:ext cx="3873600" cy="4724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13500000"/>
          </a:gradFill>
          <a:ln w="3240">
            <a:solidFill>
              <a:srgbClr val="0066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warehouse oder Datam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2133720" y="2819520"/>
            <a:ext cx="2057400" cy="990360"/>
            <a:chOff x="2133720" y="2819520"/>
            <a:chExt cx="2057400" cy="990360"/>
          </a:xfrm>
        </p:grpSpPr>
        <p:sp>
          <p:nvSpPr>
            <p:cNvPr id="1039" name=""/>
            <p:cNvSpPr/>
            <p:nvPr/>
          </p:nvSpPr>
          <p:spPr>
            <a:xfrm>
              <a:off x="2133720" y="2819520"/>
              <a:ext cx="2057400" cy="990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cfeb9"/>
                </a:gs>
              </a:gsLst>
              <a:lin ang="13500000"/>
            </a:gradFill>
            <a:ln w="9360">
              <a:solidFill>
                <a:srgbClr val="ff9933"/>
              </a:solidFill>
              <a:miter/>
            </a:ln>
            <a:effectLst>
              <a:outerShdw dist="89604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2286000" y="2971800"/>
              <a:ext cx="1736640" cy="628200"/>
              <a:chOff x="2286000" y="2971800"/>
              <a:chExt cx="1736640" cy="628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2286000" y="2971800"/>
                <a:ext cx="1736640" cy="2095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ROLAP-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286000" y="3181320"/>
                <a:ext cx="385920" cy="41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671920" y="3181320"/>
                <a:ext cx="707400" cy="41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379320" y="3181320"/>
                <a:ext cx="642960" cy="41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990720" y="3657600"/>
            <a:ext cx="1752480" cy="1676160"/>
            <a:chOff x="990720" y="3657600"/>
            <a:chExt cx="1752480" cy="1676160"/>
          </a:xfrm>
        </p:grpSpPr>
        <p:sp>
          <p:nvSpPr>
            <p:cNvPr id="1046" name=""/>
            <p:cNvSpPr/>
            <p:nvPr/>
          </p:nvSpPr>
          <p:spPr>
            <a:xfrm>
              <a:off x="990720" y="3657600"/>
              <a:ext cx="1752480" cy="1676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8fd1e7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1105920" y="4137120"/>
              <a:ext cx="1453680" cy="1027080"/>
              <a:chOff x="1105920" y="4137120"/>
              <a:chExt cx="1453680" cy="102708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1105920" y="4137120"/>
                <a:ext cx="1453680" cy="1027080"/>
                <a:chOff x="1105920" y="4137120"/>
                <a:chExt cx="1453680" cy="1027080"/>
              </a:xfrm>
            </p:grpSpPr>
            <p:sp>
              <p:nvSpPr>
                <p:cNvPr id="1049" name=""/>
                <p:cNvSpPr/>
                <p:nvPr/>
              </p:nvSpPr>
              <p:spPr>
                <a:xfrm flipH="1">
                  <a:off x="1358640" y="4314960"/>
                  <a:ext cx="947880" cy="679320"/>
                </a:xfrm>
                <a:prstGeom prst="star5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ffcc66"/>
                    </a:gs>
                    <a:gs pos="100000">
                      <a:srgbClr val="ffffcc"/>
                    </a:gs>
                  </a:gsLst>
                  <a:lin ang="8100000"/>
                </a:gradFill>
                <a:ln w="3240">
                  <a:solidFill>
                    <a:srgbClr val="ff9933"/>
                  </a:solidFill>
                  <a:miter/>
                </a:ln>
                <a:effectLst>
                  <a:outerShdw dist="107932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0" name=""/>
                <p:cNvGrpSpPr/>
                <p:nvPr/>
              </p:nvGrpSpPr>
              <p:grpSpPr>
                <a:xfrm>
                  <a:off x="1693080" y="4583160"/>
                  <a:ext cx="284040" cy="241200"/>
                  <a:chOff x="1693080" y="4583160"/>
                  <a:chExt cx="284040" cy="24120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 flipH="1">
                    <a:off x="1692720" y="4583160"/>
                    <a:ext cx="284040" cy="486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 flipH="1">
                    <a:off x="1692720" y="4631760"/>
                    <a:ext cx="28404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flipH="1">
                    <a:off x="1692720" y="4679640"/>
                    <a:ext cx="284040" cy="4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 flipH="1">
                    <a:off x="1692720" y="4728240"/>
                    <a:ext cx="28404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1692720" y="4776120"/>
                    <a:ext cx="28404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1105920" y="4413240"/>
                  <a:ext cx="284040" cy="241200"/>
                  <a:chOff x="1105920" y="4413240"/>
                  <a:chExt cx="284040" cy="24120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 flipH="1">
                    <a:off x="1105560" y="4413240"/>
                    <a:ext cx="284040" cy="4860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>
                    <a:off x="1105560" y="4461840"/>
                    <a:ext cx="28404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H="1">
                    <a:off x="1105560" y="4509720"/>
                    <a:ext cx="28404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1105560" y="4558320"/>
                    <a:ext cx="28404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>
                    <a:off x="1105560" y="4605840"/>
                    <a:ext cx="284040" cy="4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2087280" y="4923000"/>
                  <a:ext cx="285120" cy="241200"/>
                  <a:chOff x="2087280" y="4923000"/>
                  <a:chExt cx="285120" cy="24120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 flipH="1">
                    <a:off x="2087280" y="4923000"/>
                    <a:ext cx="285120" cy="4860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 flipH="1">
                    <a:off x="2087280" y="4971600"/>
                    <a:ext cx="28512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H="1">
                    <a:off x="2087280" y="5019480"/>
                    <a:ext cx="28512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H="1">
                    <a:off x="2087280" y="5068080"/>
                    <a:ext cx="28512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flipH="1">
                    <a:off x="2087280" y="5115600"/>
                    <a:ext cx="285120" cy="4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8" name=""/>
                <p:cNvGrpSpPr/>
                <p:nvPr/>
              </p:nvGrpSpPr>
              <p:grpSpPr>
                <a:xfrm>
                  <a:off x="1683360" y="4137120"/>
                  <a:ext cx="284040" cy="241200"/>
                  <a:chOff x="1683360" y="4137120"/>
                  <a:chExt cx="284040" cy="24120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 flipH="1">
                    <a:off x="1683000" y="4137120"/>
                    <a:ext cx="284040" cy="4860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H="1">
                    <a:off x="1683000" y="4185720"/>
                    <a:ext cx="28404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H="1">
                    <a:off x="1683000" y="4233600"/>
                    <a:ext cx="28404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>
                    <a:off x="1683000" y="4282200"/>
                    <a:ext cx="28404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 flipH="1">
                    <a:off x="1683000" y="4329720"/>
                    <a:ext cx="284040" cy="4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4" name=""/>
                <p:cNvGrpSpPr/>
                <p:nvPr/>
              </p:nvGrpSpPr>
              <p:grpSpPr>
                <a:xfrm>
                  <a:off x="2275560" y="4413240"/>
                  <a:ext cx="284040" cy="241200"/>
                  <a:chOff x="2275560" y="4413240"/>
                  <a:chExt cx="284040" cy="24120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 flipH="1">
                    <a:off x="2275200" y="4413240"/>
                    <a:ext cx="284040" cy="4860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H="1">
                    <a:off x="2275200" y="4461840"/>
                    <a:ext cx="28404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>
                    <a:off x="2275200" y="4509720"/>
                    <a:ext cx="284040" cy="4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flipH="1">
                    <a:off x="2275200" y="4558320"/>
                    <a:ext cx="284040" cy="4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>
                    <a:off x="2275200" y="4606200"/>
                    <a:ext cx="28404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c0c0c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0" name=""/>
              <p:cNvGrpSpPr/>
              <p:nvPr/>
            </p:nvGrpSpPr>
            <p:grpSpPr>
              <a:xfrm>
                <a:off x="1340640" y="4923000"/>
                <a:ext cx="284040" cy="241200"/>
                <a:chOff x="1340640" y="4923000"/>
                <a:chExt cx="284040" cy="2412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1340640" y="4923000"/>
                  <a:ext cx="284040" cy="48600"/>
                </a:xfrm>
                <a:prstGeom prst="rect">
                  <a:avLst/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340640" y="4971600"/>
                  <a:ext cx="284040" cy="47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340640" y="5019480"/>
                  <a:ext cx="284040" cy="4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1340640" y="5068080"/>
                  <a:ext cx="284040" cy="47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340640" y="5115960"/>
                  <a:ext cx="284040" cy="48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1295280" y="3688200"/>
              <a:ext cx="1317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QL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4724280" y="1295280"/>
            <a:ext cx="3733920" cy="4724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13500000"/>
          </a:gradFill>
          <a:ln w="3240">
            <a:solidFill>
              <a:srgbClr val="0066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be-Daten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334120" y="3429000"/>
            <a:ext cx="1752480" cy="1600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f9100"/>
              </a:gs>
              <a:gs pos="100000">
                <a:srgbClr val="f5c375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MOLAP-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Aggrega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743200" y="4191120"/>
            <a:ext cx="2666880" cy="609480"/>
          </a:xfrm>
          <a:prstGeom prst="rightArrow">
            <a:avLst>
              <a:gd name="adj1" fmla="val 50000"/>
              <a:gd name="adj2" fmla="val 104449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153440" y="19044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asisdaten werden in 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elldatenbank beibeha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913680" y="202716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c20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184360" y="1904400"/>
            <a:ext cx="30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onen werden in ein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ube berechnet und gespeich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952160" y="202716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c200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Verfahrensübersicht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334120"/>
            <a:ext cx="8077320" cy="6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cc99ff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959200"/>
                <a:tab algn="l" pos="4952880"/>
                <a:tab algn="l" pos="6959520"/>
                <a:tab algn="l" pos="7149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üfen, Zusammenstellen,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ansformieren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atawarehouse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at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aten konsistent machen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on Daten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it Daten auffüllen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ertei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5486400"/>
            <a:ext cx="457200" cy="380880"/>
          </a:xfrm>
          <a:prstGeom prst="rightArrow">
            <a:avLst>
              <a:gd name="adj1" fmla="val 54167"/>
              <a:gd name="adj2" fmla="val 55851"/>
            </a:avLst>
          </a:prstGeom>
          <a:gradFill rotWithShape="0">
            <a:gsLst>
              <a:gs pos="0">
                <a:srgbClr val="ccffff"/>
              </a:gs>
              <a:gs pos="100000">
                <a:srgbClr val="f3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5486400"/>
            <a:ext cx="457200" cy="380880"/>
          </a:xfrm>
          <a:prstGeom prst="rightArrow">
            <a:avLst>
              <a:gd name="adj1" fmla="val 54167"/>
              <a:gd name="adj2" fmla="val 55851"/>
            </a:avLst>
          </a:prstGeom>
          <a:gradFill rotWithShape="0">
            <a:gsLst>
              <a:gs pos="0">
                <a:srgbClr val="ccffff"/>
              </a:gs>
              <a:gs pos="100000">
                <a:srgbClr val="f3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5486400"/>
            <a:ext cx="457200" cy="380880"/>
          </a:xfrm>
          <a:prstGeom prst="rightArrow">
            <a:avLst>
              <a:gd name="adj1" fmla="val 54167"/>
              <a:gd name="adj2" fmla="val 55851"/>
            </a:avLst>
          </a:prstGeom>
          <a:gradFill rotWithShape="0">
            <a:gsLst>
              <a:gs pos="0">
                <a:srgbClr val="ccffff"/>
              </a:gs>
              <a:gs pos="100000">
                <a:srgbClr val="f3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6160" y="2286000"/>
            <a:ext cx="762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26160" y="3124080"/>
            <a:ext cx="762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Kunden-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26160" y="3962520"/>
            <a:ext cx="762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nd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9400" y="2209680"/>
            <a:ext cx="6019560" cy="251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0213400">
            <a:off x="6440040" y="2895120"/>
            <a:ext cx="1179720" cy="304920"/>
          </a:xfrm>
          <a:prstGeom prst="rightArrow">
            <a:avLst>
              <a:gd name="adj1" fmla="val 46657"/>
              <a:gd name="adj2" fmla="val 92496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53360" y="3352680"/>
            <a:ext cx="1090440" cy="304920"/>
          </a:xfrm>
          <a:prstGeom prst="rightArrow">
            <a:avLst>
              <a:gd name="adj1" fmla="val 50000"/>
              <a:gd name="adj2" fmla="val 85364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91080" y="175248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tam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4240" y="1447920"/>
            <a:ext cx="140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uell-OLT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yst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49400" y="1447920"/>
            <a:ext cx="18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mporär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tentestbere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1386600">
            <a:off x="6400440" y="3885480"/>
            <a:ext cx="1179360" cy="304920"/>
          </a:xfrm>
          <a:prstGeom prst="rightArrow">
            <a:avLst>
              <a:gd name="adj1" fmla="val 46657"/>
              <a:gd name="adj2" fmla="val 92468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2960" y="3124080"/>
            <a:ext cx="1517400" cy="1371600"/>
          </a:xfrm>
          <a:prstGeom prst="can">
            <a:avLst>
              <a:gd name="adj" fmla="val 16833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Data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wareho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97440" y="3429000"/>
            <a:ext cx="1395360" cy="304920"/>
          </a:xfrm>
          <a:prstGeom prst="rightArrow">
            <a:avLst>
              <a:gd name="adj1" fmla="val 50000"/>
              <a:gd name="adj2" fmla="val 109234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84600" y="2286000"/>
            <a:ext cx="2074680" cy="2209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2608200"/>
            <a:ext cx="1773360" cy="591840"/>
            <a:chOff x="2895480" y="2608200"/>
            <a:chExt cx="1773360" cy="591840"/>
          </a:xfrm>
        </p:grpSpPr>
        <p:sp>
          <p:nvSpPr>
            <p:cNvPr id="66" name=""/>
            <p:cNvSpPr/>
            <p:nvPr/>
          </p:nvSpPr>
          <p:spPr>
            <a:xfrm>
              <a:off x="2895480" y="2608200"/>
              <a:ext cx="1773360" cy="19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Narrow"/>
                </a:rPr>
                <a:t>Verkaufs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95480" y="2805480"/>
              <a:ext cx="393840" cy="3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89320" y="2805480"/>
              <a:ext cx="722520" cy="3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12200" y="2805480"/>
              <a:ext cx="656280" cy="3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989440" y="3048120"/>
            <a:ext cx="1773000" cy="591840"/>
            <a:chOff x="2989440" y="3048120"/>
            <a:chExt cx="1773000" cy="591840"/>
          </a:xfrm>
        </p:grpSpPr>
        <p:sp>
          <p:nvSpPr>
            <p:cNvPr id="71" name=""/>
            <p:cNvSpPr/>
            <p:nvPr/>
          </p:nvSpPr>
          <p:spPr>
            <a:xfrm>
              <a:off x="2989440" y="3048120"/>
              <a:ext cx="1773000" cy="19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Narrow"/>
                </a:rPr>
                <a:t>Hardware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89440" y="3245400"/>
              <a:ext cx="393840" cy="3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83280" y="3245400"/>
              <a:ext cx="722520" cy="3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05800" y="3245400"/>
              <a:ext cx="656280" cy="3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711440" y="3276720"/>
            <a:ext cx="1090440" cy="304560"/>
          </a:xfrm>
          <a:prstGeom prst="rightArrow">
            <a:avLst>
              <a:gd name="adj1" fmla="val 50000"/>
              <a:gd name="adj2" fmla="val 85465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7520" y="3124080"/>
            <a:ext cx="762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11440" y="2438280"/>
            <a:ext cx="1090440" cy="304920"/>
          </a:xfrm>
          <a:prstGeom prst="rightArrow">
            <a:avLst>
              <a:gd name="adj1" fmla="val 50000"/>
              <a:gd name="adj2" fmla="val 85364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7520" y="2286000"/>
            <a:ext cx="762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3800" y="4114800"/>
            <a:ext cx="3429000" cy="304920"/>
          </a:xfrm>
          <a:prstGeom prst="rightArrow">
            <a:avLst>
              <a:gd name="adj1" fmla="val 50000"/>
              <a:gd name="adj2" fmla="val 89912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7520" y="3962520"/>
            <a:ext cx="762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nd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Vergleichen der Speicherstruktur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838080" y="3505320"/>
            <a:ext cx="2971800" cy="533160"/>
          </a:xfrm>
          <a:prstGeom prst="rect">
            <a:avLst/>
          </a:prstGeom>
          <a:gradFill rotWithShape="0">
            <a:gsLst>
              <a:gs pos="0">
                <a:srgbClr val="00739a"/>
              </a:gs>
              <a:gs pos="50000">
                <a:srgbClr val="0099cc"/>
              </a:gs>
              <a:gs pos="100000">
                <a:srgbClr val="00739a"/>
              </a:gs>
            </a:gsLst>
            <a:lin ang="10800000"/>
          </a:gradFill>
          <a:ln w="12600">
            <a:solidFill>
              <a:srgbClr val="336699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09880" y="3505320"/>
            <a:ext cx="1447920" cy="533160"/>
          </a:xfrm>
          <a:prstGeom prst="rect">
            <a:avLst/>
          </a:prstGeom>
          <a:gradFill rotWithShape="0">
            <a:gsLst>
              <a:gs pos="0">
                <a:srgbClr val="00739a"/>
              </a:gs>
              <a:gs pos="50000">
                <a:srgbClr val="0099cc"/>
              </a:gs>
              <a:gs pos="100000">
                <a:srgbClr val="00739a"/>
              </a:gs>
            </a:gsLst>
            <a:lin ang="10800000"/>
          </a:gradFill>
          <a:ln w="12600">
            <a:solidFill>
              <a:srgbClr val="336699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57800" y="3505320"/>
            <a:ext cx="1447920" cy="533160"/>
          </a:xfrm>
          <a:prstGeom prst="rect">
            <a:avLst/>
          </a:prstGeom>
          <a:gradFill rotWithShape="0">
            <a:gsLst>
              <a:gs pos="0">
                <a:srgbClr val="00739a"/>
              </a:gs>
              <a:gs pos="50000">
                <a:srgbClr val="0099cc"/>
              </a:gs>
              <a:gs pos="100000">
                <a:srgbClr val="00739a"/>
              </a:gs>
            </a:gsLst>
            <a:lin ang="10800000"/>
          </a:gradFill>
          <a:ln w="12600">
            <a:solidFill>
              <a:srgbClr val="336699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05720" y="3505320"/>
            <a:ext cx="1447560" cy="533160"/>
          </a:xfrm>
          <a:prstGeom prst="rect">
            <a:avLst/>
          </a:prstGeom>
          <a:gradFill rotWithShape="0">
            <a:gsLst>
              <a:gs pos="0">
                <a:srgbClr val="00739a"/>
              </a:gs>
              <a:gs pos="50000">
                <a:srgbClr val="0099cc"/>
              </a:gs>
              <a:gs pos="100000">
                <a:srgbClr val="00739a"/>
              </a:gs>
            </a:gsLst>
            <a:lin ang="10800000"/>
          </a:gradFill>
          <a:ln w="12600">
            <a:solidFill>
              <a:srgbClr val="336699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38080" y="1219320"/>
            <a:ext cx="2971800" cy="533160"/>
          </a:xfrm>
          <a:prstGeom prst="rect">
            <a:avLst/>
          </a:prstGeom>
          <a:gradFill rotWithShape="0">
            <a:gsLst>
              <a:gs pos="0">
                <a:srgbClr val="00739a"/>
              </a:gs>
              <a:gs pos="50000">
                <a:srgbClr val="0099cc"/>
              </a:gs>
              <a:gs pos="100000">
                <a:srgbClr val="00739a"/>
              </a:gs>
            </a:gsLst>
            <a:lin ang="10800000"/>
          </a:gradFill>
          <a:ln w="12600">
            <a:solidFill>
              <a:srgbClr val="336699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38080" y="1752480"/>
            <a:ext cx="2971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38080" y="2438280"/>
            <a:ext cx="2971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38080" y="4038480"/>
            <a:ext cx="2971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frageleis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838080" y="4724280"/>
            <a:ext cx="2971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icherverbra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838080" y="5410080"/>
            <a:ext cx="2971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tung des Cu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09880" y="1219320"/>
            <a:ext cx="1447920" cy="533160"/>
          </a:xfrm>
          <a:prstGeom prst="rect">
            <a:avLst/>
          </a:prstGeom>
          <a:gradFill rotWithShape="0">
            <a:gsLst>
              <a:gs pos="0">
                <a:srgbClr val="00739a"/>
              </a:gs>
              <a:gs pos="50000">
                <a:srgbClr val="0099cc"/>
              </a:gs>
              <a:gs pos="100000">
                <a:srgbClr val="00739a"/>
              </a:gs>
            </a:gsLst>
            <a:lin ang="10800000"/>
          </a:gradFill>
          <a:ln w="12600">
            <a:solidFill>
              <a:srgbClr val="336699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09880" y="17524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9880" y="24382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09880" y="40384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schnell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09880" y="47242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H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09880" y="54100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H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257800" y="1219320"/>
            <a:ext cx="1447920" cy="533160"/>
          </a:xfrm>
          <a:prstGeom prst="rect">
            <a:avLst/>
          </a:prstGeom>
          <a:gradFill rotWithShape="0">
            <a:gsLst>
              <a:gs pos="0">
                <a:srgbClr val="00739a"/>
              </a:gs>
              <a:gs pos="50000">
                <a:srgbClr val="0099cc"/>
              </a:gs>
              <a:gs pos="100000">
                <a:srgbClr val="00739a"/>
              </a:gs>
            </a:gsLst>
            <a:lin ang="10800000"/>
          </a:gradFill>
          <a:ln w="12600">
            <a:solidFill>
              <a:srgbClr val="336699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257800" y="17524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Relationale</a:t>
            </a:r>
            <a:br>
              <a:rPr sz="1800"/>
            </a:b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57800" y="24382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257800" y="40384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Schn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257800" y="47242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57800" y="54100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705720" y="1219320"/>
            <a:ext cx="1447560" cy="533160"/>
          </a:xfrm>
          <a:prstGeom prst="rect">
            <a:avLst/>
          </a:prstGeom>
          <a:gradFill rotWithShape="0">
            <a:gsLst>
              <a:gs pos="0">
                <a:srgbClr val="00739a"/>
              </a:gs>
              <a:gs pos="50000">
                <a:srgbClr val="0099cc"/>
              </a:gs>
              <a:gs pos="100000">
                <a:srgbClr val="00739a"/>
              </a:gs>
            </a:gsLst>
            <a:lin ang="10800000"/>
          </a:gradFill>
          <a:ln w="12600">
            <a:solidFill>
              <a:srgbClr val="336699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705720" y="1752480"/>
            <a:ext cx="14475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Relationale</a:t>
            </a:r>
            <a:br>
              <a:rPr sz="1800"/>
            </a:b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705720" y="2438280"/>
            <a:ext cx="14475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Relationale</a:t>
            </a:r>
            <a:br>
              <a:rPr sz="1800"/>
            </a:b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05720" y="4038480"/>
            <a:ext cx="14475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Schn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4724280"/>
            <a:ext cx="14475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Nied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5410080"/>
            <a:ext cx="14475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Nied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Beispiel: Cube Umsatz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1124" name="Demo%20Aufbau%20DW-42_1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535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Speicherentwurf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1126" name="Demo%20Aufbau%20DW-36_1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35720" cy="483552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3203640" y="9907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peichert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Speicherentwurf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1129" name="Demo%20Aufbau%20DW-27_1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57680" cy="483552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2972880" y="99072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ggregations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Aufbereitung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1132" name="Demo%20Aufbau%20DW-24_1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4492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aten Anzeig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1523880" y="2286000"/>
          <a:ext cx="60580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0"/>
                    <a:ext cx="60580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Berechnete Elemente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1137" name="Demo%20Aufbau%20DW-41_1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664320" cy="513252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3812400" y="988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her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Berechnete Elemente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1140" name="Demo%20Aufbau%20DW-43_1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664320" cy="50976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431160" y="9889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jahresw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Was nicht gezeigt wurde ...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80720" y="1523880"/>
            <a:ext cx="58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menteigenscha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rtuelle Dimens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ausgeglichene Dimens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rtuelle C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nutzer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ningmod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viele viele Detail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"/>
          <p:cNvGraphicFramePr/>
          <p:nvPr/>
        </p:nvGraphicFramePr>
        <p:xfrm>
          <a:off x="1600200" y="2133720"/>
          <a:ext cx="3808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1600200" y="2666880"/>
          <a:ext cx="38088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6668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600200" y="3124080"/>
          <a:ext cx="3808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1240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1600200" y="4191120"/>
          <a:ext cx="38088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1911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2" name=""/>
          <p:cNvGraphicFramePr/>
          <p:nvPr/>
        </p:nvGraphicFramePr>
        <p:xfrm>
          <a:off x="1600200" y="3657600"/>
          <a:ext cx="3808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365760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4" name=""/>
          <p:cNvGraphicFramePr/>
          <p:nvPr/>
        </p:nvGraphicFramePr>
        <p:xfrm>
          <a:off x="1600200" y="1676520"/>
          <a:ext cx="38088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0200" y="16765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Wie geht’s weiter ?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828440" y="1523520"/>
            <a:ext cx="5181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cel Pivot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DX Beispielanwe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atenfluß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1928880"/>
            <a:ext cx="1143000" cy="4267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928880"/>
            <a:ext cx="6782040" cy="4267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91080" y="5450040"/>
            <a:ext cx="74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t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56160" y="5433840"/>
            <a:ext cx="80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LT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9840" y="5433840"/>
            <a:ext cx="18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mporär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tentestbere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2400" y="543384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ta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09760" y="545004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LAP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1066680"/>
            <a:ext cx="388620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LAP Services-Daten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24880" y="3557520"/>
            <a:ext cx="733320" cy="7333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24880" y="4548240"/>
            <a:ext cx="733320" cy="7333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389000">
            <a:off x="6676560" y="3452400"/>
            <a:ext cx="1090800" cy="304920"/>
          </a:xfrm>
          <a:prstGeom prst="rightArrow">
            <a:avLst>
              <a:gd name="adj1" fmla="val 50000"/>
              <a:gd name="adj2" fmla="val 85392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0176800">
            <a:off x="6592680" y="4062240"/>
            <a:ext cx="1179360" cy="304920"/>
          </a:xfrm>
          <a:prstGeom prst="rightArrow">
            <a:avLst>
              <a:gd name="adj1" fmla="val 46657"/>
              <a:gd name="adj2" fmla="val 92468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 rot="1724400">
            <a:off x="6636960" y="4367160"/>
            <a:ext cx="1179360" cy="304920"/>
          </a:xfrm>
          <a:prstGeom prst="rightArrow">
            <a:avLst>
              <a:gd name="adj1" fmla="val 46657"/>
              <a:gd name="adj2" fmla="val 92468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1599400">
            <a:off x="6645240" y="4976280"/>
            <a:ext cx="1090800" cy="304920"/>
          </a:xfrm>
          <a:prstGeom prst="rightArrow">
            <a:avLst>
              <a:gd name="adj1" fmla="val 50000"/>
              <a:gd name="adj2" fmla="val 85392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24880" y="2567160"/>
            <a:ext cx="733320" cy="7333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0262600">
            <a:off x="6591240" y="3147480"/>
            <a:ext cx="1179720" cy="304920"/>
          </a:xfrm>
          <a:prstGeom prst="rightArrow">
            <a:avLst>
              <a:gd name="adj1" fmla="val 46657"/>
              <a:gd name="adj2" fmla="val 92496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147840"/>
            <a:ext cx="762120" cy="2286000"/>
            <a:chOff x="6400800" y="3147840"/>
            <a:chExt cx="762120" cy="2286000"/>
          </a:xfrm>
        </p:grpSpPr>
        <p:sp>
          <p:nvSpPr>
            <p:cNvPr id="99" name=""/>
            <p:cNvSpPr/>
            <p:nvPr/>
          </p:nvSpPr>
          <p:spPr>
            <a:xfrm>
              <a:off x="6400800" y="3147840"/>
              <a:ext cx="762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8fd1e7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Verkau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00800" y="3985920"/>
              <a:ext cx="762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8fd1e7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Kunden-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dien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0800" y="4824000"/>
              <a:ext cx="762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8fd1e7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nd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271480" y="3329640"/>
            <a:ext cx="1231560" cy="1931040"/>
            <a:chOff x="5271480" y="3329640"/>
            <a:chExt cx="1231560" cy="1931040"/>
          </a:xfrm>
        </p:grpSpPr>
        <p:sp>
          <p:nvSpPr>
            <p:cNvPr id="103" name=""/>
            <p:cNvSpPr/>
            <p:nvPr/>
          </p:nvSpPr>
          <p:spPr>
            <a:xfrm rot="20213400">
              <a:off x="5297040" y="3546000"/>
              <a:ext cx="1179720" cy="372960"/>
            </a:xfrm>
            <a:prstGeom prst="rightArrow">
              <a:avLst>
                <a:gd name="adj1" fmla="val 46657"/>
                <a:gd name="adj2" fmla="val 75622"/>
              </a:avLst>
            </a:prstGeom>
            <a:gradFill rotWithShape="0">
              <a:gsLst>
                <a:gs pos="0">
                  <a:srgbClr val="cc0099"/>
                </a:gs>
                <a:gs pos="100000">
                  <a:srgbClr val="e78ed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46720" y="4105080"/>
              <a:ext cx="1090440" cy="371520"/>
            </a:xfrm>
            <a:prstGeom prst="rightArrow">
              <a:avLst>
                <a:gd name="adj1" fmla="val 50000"/>
                <a:gd name="adj2" fmla="val 70061"/>
              </a:avLst>
            </a:prstGeom>
            <a:gradFill rotWithShape="0">
              <a:gsLst>
                <a:gs pos="0">
                  <a:srgbClr val="cc0099"/>
                </a:gs>
                <a:gs pos="100000">
                  <a:srgbClr val="e78ed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386600">
              <a:off x="5297040" y="4670640"/>
              <a:ext cx="1179720" cy="372960"/>
            </a:xfrm>
            <a:prstGeom prst="rightArrow">
              <a:avLst>
                <a:gd name="adj1" fmla="val 46657"/>
                <a:gd name="adj2" fmla="val 75622"/>
              </a:avLst>
            </a:prstGeom>
            <a:gradFill rotWithShape="0">
              <a:gsLst>
                <a:gs pos="0">
                  <a:srgbClr val="cc0099"/>
                </a:gs>
                <a:gs pos="100000">
                  <a:srgbClr val="e78ed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9480" y="1066680"/>
            <a:ext cx="335304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Server-Daten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864360" y="1650240"/>
            <a:ext cx="557280" cy="304560"/>
          </a:xfrm>
          <a:prstGeom prst="rightArrow">
            <a:avLst>
              <a:gd name="adj1" fmla="val 51046"/>
              <a:gd name="adj2" fmla="val 87584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7874280" y="1649880"/>
            <a:ext cx="557280" cy="304920"/>
          </a:xfrm>
          <a:prstGeom prst="rightArrow">
            <a:avLst>
              <a:gd name="adj1" fmla="val 51046"/>
              <a:gd name="adj2" fmla="val 87480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2666880"/>
            <a:ext cx="2666880" cy="838440"/>
          </a:xfrm>
          <a:custGeom>
            <a:avLst/>
            <a:gdLst/>
            <a:ahLst/>
            <a:rect l="l" t="t" r="r" b="b"/>
            <a:pathLst>
              <a:path w="1680" h="528">
                <a:moveTo>
                  <a:pt x="0" y="528"/>
                </a:moveTo>
                <a:lnTo>
                  <a:pt x="0" y="48"/>
                </a:lnTo>
                <a:lnTo>
                  <a:pt x="1488" y="48"/>
                </a:lnTo>
                <a:lnTo>
                  <a:pt x="1488" y="0"/>
                </a:lnTo>
                <a:lnTo>
                  <a:pt x="1680" y="96"/>
                </a:lnTo>
                <a:lnTo>
                  <a:pt x="1488" y="192"/>
                </a:lnTo>
                <a:lnTo>
                  <a:pt x="1488" y="144"/>
                </a:lnTo>
                <a:lnTo>
                  <a:pt x="96" y="144"/>
                </a:lnTo>
                <a:lnTo>
                  <a:pt x="96" y="528"/>
                </a:lnTo>
                <a:lnTo>
                  <a:pt x="0" y="528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3452760"/>
            <a:ext cx="1378080" cy="1501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Unter-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nehmens-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d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3757680"/>
            <a:ext cx="1395360" cy="304560"/>
          </a:xfrm>
          <a:prstGeom prst="rightArrow">
            <a:avLst>
              <a:gd name="adj1" fmla="val 50000"/>
              <a:gd name="adj2" fmla="val 109364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2614680"/>
            <a:ext cx="1600200" cy="2438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2843280"/>
            <a:ext cx="1904760" cy="837720"/>
            <a:chOff x="2209680" y="2843280"/>
            <a:chExt cx="1904760" cy="837720"/>
          </a:xfrm>
        </p:grpSpPr>
        <p:grpSp>
          <p:nvGrpSpPr>
            <p:cNvPr id="114" name=""/>
            <p:cNvGrpSpPr/>
            <p:nvPr/>
          </p:nvGrpSpPr>
          <p:grpSpPr>
            <a:xfrm>
              <a:off x="2209680" y="2843280"/>
              <a:ext cx="1773360" cy="591480"/>
              <a:chOff x="2209680" y="2843280"/>
              <a:chExt cx="1773360" cy="591480"/>
            </a:xfrm>
          </p:grpSpPr>
          <p:sp>
            <p:nvSpPr>
              <p:cNvPr id="115" name=""/>
              <p:cNvSpPr/>
              <p:nvPr/>
            </p:nvSpPr>
            <p:spPr>
              <a:xfrm>
                <a:off x="2209680" y="2843280"/>
                <a:ext cx="1773360" cy="197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Verkauf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3040560"/>
                <a:ext cx="393840" cy="39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03520" y="3040560"/>
                <a:ext cx="722520" cy="39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26400" y="3040560"/>
                <a:ext cx="656280" cy="39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341080" y="3089520"/>
              <a:ext cx="1773360" cy="591480"/>
              <a:chOff x="2341080" y="3089520"/>
              <a:chExt cx="1773360" cy="591480"/>
            </a:xfrm>
          </p:grpSpPr>
          <p:sp>
            <p:nvSpPr>
              <p:cNvPr id="120" name=""/>
              <p:cNvSpPr/>
              <p:nvPr/>
            </p:nvSpPr>
            <p:spPr>
              <a:xfrm>
                <a:off x="2341080" y="3089520"/>
                <a:ext cx="1773360" cy="197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Hardware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41080" y="3286800"/>
                <a:ext cx="393840" cy="39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34920" y="3286800"/>
                <a:ext cx="722520" cy="39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57800" y="3286800"/>
                <a:ext cx="656280" cy="39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1219320" y="4443480"/>
            <a:ext cx="3276360" cy="304560"/>
          </a:xfrm>
          <a:prstGeom prst="rightArrow">
            <a:avLst>
              <a:gd name="adj1" fmla="val 50000"/>
              <a:gd name="adj2" fmla="val 104240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1776240"/>
            <a:ext cx="914400" cy="73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cc"/>
              </a:gs>
              <a:gs pos="50000">
                <a:srgbClr val="8fd1e7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rch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9126200">
            <a:off x="901800" y="2374560"/>
            <a:ext cx="1090440" cy="304920"/>
          </a:xfrm>
          <a:prstGeom prst="rightArrow">
            <a:avLst>
              <a:gd name="adj1" fmla="val 50000"/>
              <a:gd name="adj2" fmla="val 85364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757680"/>
            <a:ext cx="1090440" cy="304560"/>
          </a:xfrm>
          <a:prstGeom prst="rightArrow">
            <a:avLst>
              <a:gd name="adj1" fmla="val 50000"/>
              <a:gd name="adj2" fmla="val 85465"/>
            </a:avLst>
          </a:prstGeom>
          <a:gradFill rotWithShape="0">
            <a:gsLst>
              <a:gs pos="0">
                <a:srgbClr val="cc0099"/>
              </a:gs>
              <a:gs pos="100000">
                <a:srgbClr val="e78ed1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62120" y="2614680"/>
            <a:ext cx="1066680" cy="2438280"/>
            <a:chOff x="762120" y="2614680"/>
            <a:chExt cx="1066680" cy="2438280"/>
          </a:xfrm>
        </p:grpSpPr>
        <p:sp>
          <p:nvSpPr>
            <p:cNvPr id="129" name=""/>
            <p:cNvSpPr/>
            <p:nvPr/>
          </p:nvSpPr>
          <p:spPr>
            <a:xfrm>
              <a:off x="762120" y="2614680"/>
              <a:ext cx="1066680" cy="243828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914400" y="2691000"/>
              <a:ext cx="762120" cy="2286000"/>
              <a:chOff x="914400" y="2691000"/>
              <a:chExt cx="762120" cy="2286000"/>
            </a:xfrm>
          </p:grpSpPr>
          <p:sp>
            <p:nvSpPr>
              <p:cNvPr id="131" name=""/>
              <p:cNvSpPr/>
              <p:nvPr/>
            </p:nvSpPr>
            <p:spPr>
              <a:xfrm>
                <a:off x="914400" y="3529080"/>
                <a:ext cx="762120" cy="609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99cc"/>
                  </a:gs>
                  <a:gs pos="50000">
                    <a:srgbClr val="8fd1e7"/>
                  </a:gs>
                  <a:gs pos="100000">
                    <a:srgbClr val="0099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Orac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14400" y="2691000"/>
                <a:ext cx="762120" cy="609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99cc"/>
                  </a:gs>
                  <a:gs pos="50000">
                    <a:srgbClr val="8fd1e7"/>
                  </a:gs>
                  <a:gs pos="100000">
                    <a:srgbClr val="0099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SQ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14400" y="4367160"/>
                <a:ext cx="762120" cy="60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99cc"/>
                  </a:gs>
                  <a:gs pos="50000">
                    <a:srgbClr val="8fd1e7"/>
                  </a:gs>
                  <a:gs pos="100000">
                    <a:srgbClr val="0099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Ande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Beispieldat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9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ypisches Beispiel im Bereich Vertrie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9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9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essegross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2819520"/>
            <a:ext cx="327636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schri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basis: Wo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renein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zeitungen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1646280" cy="1679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Beispielstruktur der Importdat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pic>
        <p:nvPicPr>
          <p:cNvPr id="139" name="Demo%20Aufbau%20DW-30_1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58360" cy="5408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Einzelne Schritte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06668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füllen eines DW mit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ort mit 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en der Datam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llen von Faktentab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llen von Dimensionstab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en von Dimens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urf gemeinsamer Dimens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en von C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entwu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ber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TS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9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9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9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DTS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27160" y="1447920"/>
            <a:ext cx="6416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ieren, Exportieren und Transformieren von Daten zwischen beliebigen OLE-DB, ODBC und Textda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eren komplexer Datenwork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stellen und Speichern von Paketen zum Ausführen von Task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ransact SQL, Win 32, Active X Scripts, Senden von E-Mails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8:13:39Z</dcterms:created>
  <dc:creator>Meyer</dc:creator>
  <dc:description/>
  <dc:language>en-US</dc:language>
  <cp:lastModifiedBy>Meyer</cp:lastModifiedBy>
  <dcterms:modified xsi:type="dcterms:W3CDTF">2002-11-20T10:23:51Z</dcterms:modified>
  <cp:revision>32</cp:revision>
  <dc:subject/>
  <dc:title>OLAP mit MS-SQl</dc:title>
</cp:coreProperties>
</file>