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835-DD41-4C56-97DB-82EE904E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673-F129-4024-BD4D-B811391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1B9-5B67-44B1-BB80-3797D4F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C7A-23A4-441B-9344-3CA77B40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B17-EB5B-4AEA-B842-EA96706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589-0FA0-4381-9748-7788C00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DC5-11A4-498B-A74C-677B53DC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0E7-A732-417C-B993-9BABC471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DEF-4B75-4AA3-A592-A71DC55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5F4-6302-4CD8-9C56-C0C1167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32C-1875-47A6-BB60-02C372E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0E6-61D8-49D6-801F-DA63E94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0A14-4579-42B6-A204-80FC65CC9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450720"/>
          <a:ext cx="8458200" cy="5896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0720"/>
                    <a:ext cx="8458200" cy="58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0880" y="399960"/>
          <a:ext cx="8534520" cy="59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99960"/>
                    <a:ext cx="853452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6:49:48Z</dcterms:created>
  <dc:creator>Holger</dc:creator>
  <dc:description/>
  <dc:language>en-US</dc:language>
  <cp:lastModifiedBy>Holger</cp:lastModifiedBy>
  <dcterms:modified xsi:type="dcterms:W3CDTF">2003-06-05T06:50:12Z</dcterms:modified>
  <cp:revision>1</cp:revision>
  <dc:subject/>
  <dc:title>PowerPoint-Präsentation</dc:title>
</cp:coreProperties>
</file>